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899640" y="745920"/>
            <a:ext cx="487548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move the slide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09360" y="4700520"/>
            <a:ext cx="48546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29C8E57-4D23-4A87-BBC0-45E381B729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4E60CC0-7B88-4762-893B-E57FD4BB3F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794040" y="932472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39D507E-706D-44B0-B0FC-1EE35449AA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32472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288288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94040" y="-360"/>
            <a:ext cx="2881440" cy="5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961E-0E77-40E8-955C-3D9074088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EA54-BBD4-47DB-A5C3-EC4208A88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7150-B8A9-4A12-BDF1-D59D39F0F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712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9640" y="114300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5248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712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9640" y="3729960"/>
            <a:ext cx="220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C6CD-7FF9-47D7-AB2C-F7C5EC148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F815-238E-46BE-97F0-732705302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F274-CE37-4A3F-995F-627735114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406E-0562-4839-B47D-EF4408EA5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F659-FE74-4AC6-82A9-572AB4B2B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8280" y="228600"/>
            <a:ext cx="5181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BA11-D38E-4762-A553-D5CC83777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36D9-1627-42C1-978B-A18FDA11B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66800" y="372996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07D2-99AD-4350-85D7-C2FE1DF6B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5248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6800" y="1143000"/>
            <a:ext cx="3346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52480" y="372996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C694-0EB3-4BBD-95CE-A6D423029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e8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52480" y="114300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Click to edit the outline text format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-28584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con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2" marL="11430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Third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3" marL="16002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our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4" marL="2057400" indent="-228600"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Fif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5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ix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lvl="6" marL="2057400" indent="-228600">
              <a:spcBef>
                <a:spcPts val="550"/>
              </a:spcBef>
              <a:buClr>
                <a:srgbClr val="00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6"/>
                </a:solidFill>
                <a:latin typeface="TheSansCorrespondence"/>
              </a:rPr>
              <a:t>Seventh Outline Le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438280" y="228600"/>
            <a:ext cx="5181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TheSansCorrespondence"/>
              </a:rPr>
              <a:t>Click to edit the title text format</a:t>
            </a:r>
            <a:endParaRPr b="1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96"/>
                </a:solidFill>
                <a:latin typeface="TheSansCorresponden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B156-2807-4B47-82FB-AE9DA8D34E5B}" type="slidenum">
              <a:rPr b="0" lang="es-ES_tradnl" sz="1200" spc="-1" strike="noStrike">
                <a:solidFill>
                  <a:srgbClr val="000096"/>
                </a:solidFill>
                <a:latin typeface="TheSansCorresponden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52480" y="6477120"/>
            <a:ext cx="0" cy="30456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04920" y="457200"/>
          <a:ext cx="76176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7200"/>
                    <a:ext cx="761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04920" y="13716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680" y="2209680"/>
            <a:ext cx="133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MPROMISO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rcRect l="24970" t="59303" r="21982" b="9492"/>
          <a:stretch/>
        </p:blipFill>
        <p:spPr>
          <a:xfrm>
            <a:off x="146160" y="5916600"/>
            <a:ext cx="1143000" cy="67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755720" y="6377040"/>
            <a:ext cx="1928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cc"/>
                </a:solidFill>
                <a:latin typeface="TheSansCorresponden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 </a:t>
            </a:r>
            <a:r>
              <a:rPr b="0" lang="es-ES" sz="1200" spc="-1" strike="noStrike">
                <a:solidFill>
                  <a:srgbClr val="0033cc"/>
                </a:solidFill>
                <a:latin typeface="TheSansCorrespondence"/>
              </a:rPr>
              <a:t>Telefónica </a:t>
            </a:r>
            <a:r>
              <a:rPr b="0" lang="es-PE" sz="1200" spc="-1" strike="noStrike">
                <a:solidFill>
                  <a:srgbClr val="0033cc"/>
                </a:solidFill>
                <a:latin typeface="TheSansCorrespondence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34120" y="2590920"/>
            <a:ext cx="2441520" cy="2441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l Peinador de la Reina"/>
          <p:cNvPicPr/>
          <p:nvPr/>
        </p:nvPicPr>
        <p:blipFill>
          <a:blip r:embed="rId2"/>
          <a:srcRect l="9271" t="0" r="9271" b="7052"/>
          <a:stretch/>
        </p:blipFill>
        <p:spPr>
          <a:xfrm>
            <a:off x="1447920" y="3886200"/>
            <a:ext cx="114120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038480" y="2583000"/>
            <a:ext cx="11509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1447920" y="2590920"/>
          <a:ext cx="1144440" cy="114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2590920"/>
                    <a:ext cx="1144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50920" y="685800"/>
            <a:ext cx="8893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UNA ALTERNATIVA DE FUTURO: 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64"/>
                </a:solidFill>
                <a:latin typeface="TheSansCorrespondence"/>
              </a:rPr>
              <a:t>LA EVALUACIÓN BASADA EN ESTÁNDARES</a:t>
            </a: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9800"/>
            <a:ext cx="384804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heSansCorrespondence"/>
              </a:rPr>
              <a:t>03 de agosto del 2006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heSansCorrespondence"/>
              </a:rPr>
              <a:t>Hildebrando Luque Freire, M.Sc.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8040" y="6273720"/>
            <a:ext cx="171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Fundaci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  <a:ea typeface="ＭＳ Ｐゴシック"/>
              </a:rPr>
              <a:t>ón</a:t>
            </a:r>
            <a:r>
              <a:rPr b="0" lang="es-ES_tradnl" sz="1000" spc="-1" strike="noStrike">
                <a:solidFill>
                  <a:srgbClr val="0033cc"/>
                </a:solidFill>
                <a:latin typeface="TheSansCorrespondence"/>
              </a:rPr>
              <a:t>Telefónica Perú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4680" y="632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74320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274320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34080" y="2889360"/>
            <a:ext cx="16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heSansCorrespondence"/>
              </a:rPr>
              <a:t>C</a:t>
            </a: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OMPROMISO 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heSansCorrespondence"/>
              </a:rPr>
              <a:t>CON LA SOCIEDAD</a:t>
            </a:r>
            <a:endParaRPr b="0" lang="en-US" sz="13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4038480" y="3884760"/>
            <a:ext cx="1144800" cy="114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17A4-56FC-49D6-A766-D0D271BD7D9F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IFERENCIA  ENTRE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RITERIO Y ESTÁNDAR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CRITERIO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DESCRIPTOR DEL ATRIBUTO DE UN OBJET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heSansCorrespondence"/>
              </a:rPr>
              <a:t>ESTÁNDAR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: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ANTIDAD DEL ATRIBUTO NECESARIO PARA EMITIR UN JUICI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CB24-8252-476E-853C-81C9AE7659C1}" type="slidenum">
              <a:t>10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¿CÓMO CONSTRUIR LOS ESTÁNDARES DE UN ÁREA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7740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ESTÁNDARES DE OTROS PAÍS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LOS PROGRAMAS QUE EL COLEGIO VIENE DESARROLAND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CILIAR AMBAS FUENTES REDACTANDO LOS PRIMEROS BORRADORES DE LOS ESTÁNDAR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ULTAR EL PROYECTO DE ESTÁNDARES ELABORADO CON LOS PROFESORES DEL ÁRE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D143-F076-4C3F-91EA-5C7121F5CFE3}" type="slidenum">
              <a:t>11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1623-9C6B-465A-981F-669764BB63A9}" type="slidenum">
              <a:t>12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CURRICULAR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734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DESCRIPCIÓN DE METAS MÁXIMAS DE EXIGENCIA ACADÉMICA QUE SE CONSTITUYEN EN PILARES DEL MEJORAMIENTO CUALITATIVO DE LA EDU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B1D3-4EBB-41E1-AE33-AD528F9FA84C}" type="slidenum">
              <a:t>13</a:t>
            </a:fld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ESTÁNDARES CURRICULARES EN MATEMÁTICA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8580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.   NÚMERO Y OPERAC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.  ÁLGEBR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II. GEOMETRÍA 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IV. MEDID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V.  MATEMÁTICAS DISCRET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7179-0B30-4C1C-BFD6-BCD78E589EA4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 CURRICULAR DE MATEMÁTICAS PARA 5º GRAD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484280"/>
            <a:ext cx="745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.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NÚMERO Y OPER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MPRENDER LOS NÚMEROS, SU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ROPIEDADES, REPRESENTACIÓN,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RELACIONES Y LOS SISTEMAS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NUMÉRIC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I -1- (a)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 USAR MODELOS, REFERENCIAS Y FORMAS EQUIVALENTES PARA JUZGAR EL TAMAÑO DE LAS FRACCIONES USANDO DECIMALES Y PORCENTAJES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670D-C796-4CC8-A452-A880EC1F1D34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 DE EJECUCIÓN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6858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SPECIFICACIÓN DE LAS HABILIDADES Y APTITUDES QUE LOS ESTUDIANTES DEBEN APRENDER EN RELACIÓN CON CADA ESTÁNDAR DE CONTENID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6DE4-B0F8-42AE-9B83-030D9CC69611}" type="slidenum">
              <a:t>16</a:t>
            </a:fld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DE EJECUCIÓN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6858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SOLUCIÓN DE PROBLEM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AZONAMIENTO Y DEMOSTR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MUNIC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REPRESENTA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9A4D-0BE6-4B95-8AF1-EDF51B392067}" type="slidenum">
              <a:t>17</a:t>
            </a:fld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STÁNDARES PEDAGÓGICO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1268280"/>
            <a:ext cx="7140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Lineamientos para: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PROMOVER ACTIVIDADES QUE IMPULSEN UN CLIMA DE COOPERAC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ACILITAR LAS CONEXIONES ENTRE LO QUE SE ENSEÑA Y LO QUE RODEA AL ESTUDIANTE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RTALECER EL APRENDIZAJE DE PROCEDIMIENTOS Y AUTOMATISM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55CF-4D46-4336-A0ED-5834EFBA774F}" type="slidenum">
              <a:t>18</a:t>
            </a:fld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75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heSansCorrespondence"/>
              </a:rPr>
              <a:t>ESTÁNDARES PEDAGÓGICOS EN MATEMÁTIC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280" y="1557360"/>
            <a:ext cx="7380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SEÑANDO CON TECNOLOGÍ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APRENDIZAJE ACTIV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HACIENDO CONEXION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USANDO APROXIMACIONES MÚLTIPL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XPERIMENTANDO LAS MATEMÁTIC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CLASES INTERACTIV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BC63-0468-45B3-98D2-ABA0738BD3E4}" type="slidenum">
              <a:t>19</a:t>
            </a:fld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SOCIEDAD DEL CONOCIMIENTO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MET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REALIZACIÓN PERSONAL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CIUDADANÍA ACTIVA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EMPLEABI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0000"/>
                </a:solidFill>
                <a:latin typeface="TheSansCorrespondence"/>
              </a:rPr>
              <a:t>ÉNFASI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ENSEÑAR a </a:t>
            </a:r>
            <a:r>
              <a:rPr b="1" lang="es-ES_tradnl" sz="2500" spc="-1" strike="noStrike">
                <a:solidFill>
                  <a:srgbClr val="00cc99"/>
                </a:solidFill>
                <a:latin typeface="TheSansCorrespondence"/>
              </a:rPr>
              <a:t>APRENDER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e88"/>
                </a:solidFill>
                <a:latin typeface="TheSansCorrespondence"/>
              </a:rPr>
              <a:t>De DESARROLLO DEL CONOCIMIENTO al de APTITUDE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801E-2D95-417B-B7D7-DC7C9E77C438}" type="slidenum">
              <a:t>2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APRENDIZAJ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UN ESTUDIANTE APRENDE CUANDO PIENSA ACTIVAMENTE CONSTRUYENDO Y DESARROLLANDO MODELOS MENTALES EXPLICATIVOS QUE LE PERMITEN ADAPTARSE ANTE SITUACIONES INESPERAD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ctr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3300" spc="-1" strike="noStrike">
                <a:solidFill>
                  <a:srgbClr val="000096"/>
                </a:solidFill>
                <a:latin typeface="TheSansCorrespondence"/>
              </a:rPr>
              <a:t>EVALUACIÓN DEL APRENDIZAJE</a:t>
            </a:r>
            <a:endParaRPr b="0" lang="en-US" sz="33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VESTIGACIÓN SISTEMÁTICA QUE ABARCA TODOS LOS MÉTODOS USADOS PARA VALORAR O JUZGAR LA EFICIENCIA DE UNA PERSONA O DE UN GRUPO A TRAVÉS DE PRUEBAS, DOCUMENTACIÓN, SEGUIMIENTO O MONITOREO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8B48-568D-46CA-8A0E-966E04F21F2B}" type="slidenum">
              <a:t>20</a:t>
            </a:fld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ÉNFASIS EN LA EVALUACIÓN DE LOS APRENDIZAJE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6858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DETERMINAR LA AUSENCIA DE UN FRAGMENTO DE INFORMACIÓN 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ÓMO SE ORGANIZA, ESTRUCTURA Y USA ESA INFORMACIÓN PARA RESOLVER PROBLEMAS COMPLEJ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DE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LOS TRADICIONALES EXÁMENES </a:t>
            </a: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LA EVALUACIÓN BASADA EN ESTÁNDARES DE DESEMPEÑO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6246-50F9-4EBB-BA8B-DD2AAF423CB4}" type="slidenum">
              <a:t>21</a:t>
            </a:fld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EVALUACIÓN BASADA EN ESTÁNDARES (EBE)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640" y="1484280"/>
            <a:ext cx="734544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ESTÁ CONSTITUIDA POR UN GRAN GRUPO DE MÉTODOS DE EVALUACIÓN LIGADOS AL PENSAMIENTO CRITERI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LA </a:t>
            </a:r>
            <a:r>
              <a:rPr b="1" lang="es-ES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" sz="2200" spc="-1" strike="noStrike">
                <a:solidFill>
                  <a:srgbClr val="000096"/>
                </a:solidFill>
                <a:latin typeface="TheSansCorrespondence"/>
              </a:rPr>
              <a:t> PERMITE CENTRAR EL ESFUERZO DE LOS EDUCADORES Y LOS ESTUDIANTES EN METAS DE DESEMPEÑO ESPECÍFIC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L FIN DE LA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B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ES AYUDAR A LOS ESTUDIANTES A CUMPLIR CON LOS ESTÁNDARES MIDIENDO SU PROGRESO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B423F-8C06-4572-AF30-EBA898061089}" type="slidenum">
              <a:t>22</a:t>
            </a:fld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RETOS PARA LOS SISTEMAS DE EBE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858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UN CONSENSO NACIONAL, REGIONAL, LOCAL O INSTITUCION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ABLECER ESTÁNDARES DE ALTO NIVE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LINEAR LOS ESTÁNDARES CON LE ENSEÑANZA Y LA EVALUACIÓN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ASEGURAR MEDICIONES PRECIS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INCLUIR A TODOS LOS ESTUDIANT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CONSTRUIR CAPACIDAD LOCAL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STIMAR COSTO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NCARAR RETOS LEGALE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3486-18B2-45C6-8E0B-DEE4B4060CED}" type="slidenum">
              <a:t>23</a:t>
            </a:fld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¿CÓMO SE DISEÑA UNA PRUEBA DE EVALUACIÓN BASADA EN ESTÁNDARES?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6858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IDENTIFICAR LOS CONTENIDOS DE CADA ESTÁNDAR CURRICULAR: CONCEPTOS Y PROCEDIMI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JUSTAR EL NÚMERO DE PREGUNTAS PARA REPRESENTAR A LOS ESTÁNDARES Y SUS CONTENIDOS, Y AL TIEMPO DISPONIBLE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5E07-5917-4580-81D3-FDB0771429E0}" type="slidenum">
              <a:t>24</a:t>
            </a:fld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ONSTRUCCIÓN O ELECCIÓN DE LAS PREGUNTAS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685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CONSTRUIR PREGUNTAS EN BASE A LA EXPERIENCIA PREV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ELEGIR PREGUNTAS DE UN BANCO DE PREGUNTAS ESTANDARIZADA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heSansCorrespondence"/>
              </a:rPr>
              <a:t>CRITERI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ADO DE DIFICULT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PODER DISCRIMINADO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TIEMPO-ALUMNO DE RESOLUCIÓN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65FD-44B1-44EB-816C-46FC7D770107}" type="slidenum">
              <a:t>25</a:t>
            </a:fld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LIFICACIÓN DE LA PRUEBA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 CARGO DE UNA COMISIÓN EXTERNA O INTER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SO DE TARJETAS PARA LECTURA ÓPTICA O CALIFICACIÓN MANU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ADJUDICAR UN CÓDIGO PARA CADA ALUMNO VÁLIDO PARA TODA SU ESCOLARIDAD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ENERAR UNA BASE DE DATOS USANDO CÓDIGOS, APELLIDOS Y NOMBRES, PREGUNTAS Y RESPUESTAS (BIEN, MAL, NO CONTESTADA)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ACA4-3101-4088-9E26-8BF84E0A4BD7}" type="slidenum">
              <a:t>26</a:t>
            </a:fld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ANÁLISIS DE LOS DAT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1294920"/>
            <a:ext cx="766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PROCESAMIENTO ESTADÍSTICO DE LOS DATOS PARA: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ESTUDIANTES Y PADRES SOBRE EL RENDIMIENTO INDIVIDUAL PARA LA ORIENTACIÓN POSTERIOR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INFORMAR A LOS PROFESORES Y DIRECTIVOS DE LA DISTRIBUCIÓN DE LOGROS EN LA TOTALIDAD DEL GRUPO PARA LA APLICACIÓN DE ESTRATEGIAS DE APRENDIZAJE COHERENT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GRADO DE DIFICULTAD Y PODER DISCRIMINADOR DE CADA PREGUNTA PLANTEADA PARA LA CONSTRUCCIÓN DE UN BANCO DE PREGUNTA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CD4E-4AFF-4139-86DF-3342C890982F}" type="slidenum">
              <a:t>27</a:t>
            </a:fld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INDICADORES ESTADÍSTICOS SOBRE TODOS LOS ALUMNOS DE UN SALÓN</a:t>
            </a:r>
            <a:br>
              <a:rPr sz="3600"/>
            </a:b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8000" y="2349000"/>
            <a:ext cx="685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PROMEDI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ÍN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ALIFICATIVO MÁXIMO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DESVIACIÓN ESTÁNDAR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HISTOGRAMA DE FRECU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258D-5A88-4779-A67E-5E3FC04360B4}" type="slidenum">
              <a:t>28</a:t>
            </a:fld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CADA PREGUNTA DE LA PRUEBA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ES CONTESTADA POR CADA ALUMNO BIEN (B),  MAL  (M) O NO ES CONTESTADA  (NC)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CADA PREGUNTA RECIBE UNA ETIQUETA: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DEFICIENTE (D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67%   a   100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MAL (M)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36%   a   66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heSansCorrespondence"/>
              </a:rPr>
              <a:t>BIEN (B) 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0%   a   35% CONTESTA MAL O NO CONTESTA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SE IDENTIFICA AQUELLOS CONTENIDOS O PROCEDIMIENTOS QUE ESTÁN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MAL 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O  </a:t>
            </a:r>
            <a:r>
              <a:rPr b="1" lang="es-ES_tradnl" sz="1800" spc="-1" strike="noStrike">
                <a:solidFill>
                  <a:srgbClr val="ff3300"/>
                </a:solidFill>
                <a:latin typeface="TheSansCorrespondence"/>
              </a:rPr>
              <a:t>DEFICIENTES</a:t>
            </a:r>
            <a:r>
              <a:rPr b="1" lang="es-ES_tradnl" sz="1800" spc="-1" strike="noStrike">
                <a:solidFill>
                  <a:srgbClr val="000096"/>
                </a:solidFill>
                <a:latin typeface="TheSansCorrespondence"/>
              </a:rPr>
              <a:t> Y DEBEN SER REFORZADOS</a:t>
            </a:r>
            <a:endParaRPr b="0" lang="en-US" sz="1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8AF7-53B9-41A2-9137-BF7B4C713124}" type="slidenum">
              <a:t>29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74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SISTEMAS EDUCATIVO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41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STÁNDARES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Y LA </a:t>
            </a:r>
            <a:r>
              <a:rPr b="1" lang="es-ES_tradnl" sz="2800" spc="-1" strike="noStrike">
                <a:solidFill>
                  <a:srgbClr val="ff0000"/>
                </a:solidFill>
                <a:latin typeface="TheSansCorrespondence"/>
              </a:rPr>
              <a:t>EVALUACIÓN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SON INSTRUMENTOS CLAVES PARA DEFINIR LAS POLÍTICAS APROPIADAS PARA EL MEJORAMIENTO DE LA CALIDAD EDUCATIVA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A4D3-48FB-4F3D-A688-811A4066A217}" type="slidenum">
              <a:t>3</a:t>
            </a:fld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66764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6"/>
                </a:solidFill>
                <a:latin typeface="TheSansCorrespondence"/>
              </a:rPr>
              <a:t>INDICADOR ESTADÍSTICO SOBRE TODA LA PRUEBA EN UN SALÓN: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TheSansCorrespondence"/>
              </a:rPr>
              <a:t>ÍNDICE DE ACIERTOS</a:t>
            </a: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844640"/>
            <a:ext cx="759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EXISTE UN UNIVERSO DE RESPUESTAS SEGÚN EL NÚMERO DE PREGUNTAS DE LA PRUEBA Y EL NÚMERO DE ALUMNOS QUE RINDE LA MISM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6"/>
                </a:solidFill>
                <a:latin typeface="TheSansCorrespondence"/>
              </a:rPr>
              <a:t>20 respuestas/alumno x 30 alumnos/salón = 600 resptas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ACIERTOS (B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20   2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RRADAS (M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180   3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NO CONTESTADAS (NC)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300   50%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SE DEBERÍA TENDER A UN ÍNDICE DE ACIERTOS DE 80%  O SUPERIO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3597-8B74-4A47-858A-8E853E8CB5F4}" type="slidenum">
              <a:t>30</a:t>
            </a:fld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228240"/>
            <a:ext cx="75247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NIVEL DE DIFICULTAD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47280" y="3499920"/>
            <a:ext cx="7596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PROPORCIÓN DE ESTUDIANTES QUE RESPONDEN CORRECTAMENTE LA PREGUNTA 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CRITERIO: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NIVEL MEDIO DE DIFICULTAD  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0.5 &lt; p &lt; 0.6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11280" y="1916280"/>
          <a:ext cx="5616720" cy="12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16280"/>
                    <a:ext cx="561672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A3CE-7E5B-456E-AEEB-26839AD8A6A0}" type="slidenum">
              <a:t>31</a:t>
            </a:fld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299880"/>
            <a:ext cx="77407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ÍNDICE DE DISCRIMINACIÓN DE CADA PREGUNTA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6360" y="2205000"/>
            <a:ext cx="73915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UNA BUENA PREGUNTA DEBE DISCRIMINAR ENTRE LOS QUE OBTIENEN ALTAS Y BAJAS CALIFICACION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ALTO (GA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6"/>
                </a:solidFill>
                <a:latin typeface="TheSansCorrespondence"/>
              </a:rPr>
              <a:t>GRUPO BAJO (GB) = 27% X TOTAL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700360" y="5157720"/>
          <a:ext cx="51735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157720"/>
                    <a:ext cx="5173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2491-4DFF-4411-A3F1-20CAF9905054}" type="slidenum">
              <a:t>32</a:t>
            </a:fld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CRITERIOS PARA EL ÍNDICE DE DISCRIMINACIÓN  (D)</a:t>
            </a:r>
            <a:br>
              <a:rPr sz="2800"/>
            </a:br>
            <a:br>
              <a:rPr sz="2000"/>
            </a:br>
            <a:r>
              <a:rPr b="0" lang="es-ES_tradnl" sz="3200" spc="-1" strike="noStrike">
                <a:solidFill>
                  <a:srgbClr val="000096"/>
                </a:solidFill>
                <a:latin typeface="TheSansCorrespondence"/>
              </a:rPr>
              <a:t>-1 &lt; D &lt; 1</a:t>
            </a:r>
            <a:br>
              <a:rPr sz="3200"/>
            </a:br>
            <a:endParaRPr b="1" lang="en-US" sz="3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2637000"/>
            <a:ext cx="77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9 - 1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EXCELENTE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CONSERVAR PREGUNT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30 - 0.3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BUEN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POSIBILIDAD MEJORA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20 - 0.29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REGULAR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NECESIDAD REVIS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0.00 - 0.2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OBRE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-1 -  0.00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ff3300"/>
                </a:solidFill>
                <a:latin typeface="TheSansCorrespondence"/>
              </a:rPr>
              <a:t>PÉSIMA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SCARTAR 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200" spc="-1" strike="noStrike">
                <a:solidFill>
                  <a:srgbClr val="000096"/>
                </a:solidFill>
                <a:latin typeface="TheSansCorrespondence"/>
              </a:rPr>
              <a:t>    DEFINITIVAMENTE</a:t>
            </a:r>
            <a:endParaRPr b="0" lang="en-US" sz="22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343E-2896-456E-8D92-DC310299A87A}" type="slidenum">
              <a:t>33</a:t>
            </a:fld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28600"/>
            <a:ext cx="745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REPORT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47280" y="1052640"/>
            <a:ext cx="759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ALUMNO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SU CALIFICATIVO, TEMAS DÉBILES Y RECOMENDACIONE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L PROFESOR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ISTA DE SUS ALUMNOS, CALIFICATIVOS, HISTOGRAMA, MEDIA, MÍNIMA, MÁXIMA, DESVIACIÓN ESTÁNDAR, IDENTIFICACIÓN DE TEMAS A REVISAR, ÍNDICE DE ACIERTOS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  <a:p>
            <a:pPr marL="332640" indent="-332640">
              <a:lnSpc>
                <a:spcPct val="130000"/>
              </a:lnSpc>
              <a:spcBef>
                <a:spcPts val="499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heSansCorrespondence"/>
              </a:rPr>
              <a:t>A LOS DIRECTIVOS</a:t>
            </a:r>
            <a:r>
              <a:rPr b="1" lang="es-ES_tradnl" sz="2000" spc="-1" strike="noStrike">
                <a:solidFill>
                  <a:srgbClr val="000096"/>
                </a:solidFill>
                <a:latin typeface="TheSansCorrespondence"/>
              </a:rPr>
              <a:t>: LO MISMO QUE AL PROFESOR PERO DE TODOS LOS CURSOS Y GRADOS, ADEMÁS DE LOS GRADOS DE DIFICULTAD Y PODER DISCRIMINADOR DE CADA PREGUNTA</a:t>
            </a:r>
            <a:endParaRPr b="0" lang="en-US" sz="2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C35B-5918-4F54-B184-2BF03C8B376B}" type="slidenum">
              <a:t>34</a:t>
            </a:fld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10d82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61960" y="590400"/>
              <a:ext cx="8020080" cy="56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A6C8-9952-4F40-98BA-26D75292419A}" type="slidenum">
              <a:t>35</a:t>
            </a:fld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360" y="62064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360" y="19051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6"/>
                </a:solidFill>
                <a:latin typeface="TheSansCorrespondence"/>
              </a:rPr>
              <a:t>Enunciados que proveen descripciones claras y específicas de las habilidades y conocimientos que los estudiantes deben lograr en su proceso de aprendizaj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38CF-69E0-4A0C-96DE-E899E22B412E}" type="slidenum">
              <a:t>4</a:t>
            </a:fld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¿QUIÉNES FIJAN LOS ESTÁNDARES?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9280" y="242100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A GENTE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PROFES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XPERTO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VALUADOR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A2D9-2573-4C10-B8EC-A7D0AC99D71B}" type="slidenum">
              <a:t>5</a:t>
            </a:fld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28600"/>
            <a:ext cx="766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 GENERAL </a:t>
            </a:r>
            <a:br>
              <a:rPr sz="4000"/>
            </a:b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6360" y="184464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LOS ESTÁNDARES DEBEN SER LOS MISMOS PARA TODOS LOS NIÑOS Y JÓVENES SIN IMPORTAR SUS DIFERENCIA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	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ALGUNOS ESTUDIANTES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NECESITAN DE MÁS TIEMPO, 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 algn="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6"/>
                </a:solidFill>
                <a:latin typeface="TheSansCorrespondence"/>
              </a:rPr>
              <a:t>OTROS DE MÁS INSTRUCCIÓN</a:t>
            </a:r>
            <a:endParaRPr b="0" lang="en-US" sz="28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0B0F-D2CF-45AC-A61D-814288905EC5}" type="slidenum">
              <a:t>6</a:t>
            </a:fld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6"/>
                </a:solidFill>
                <a:latin typeface="TheSansCorrespondence"/>
              </a:rPr>
              <a:t>CARACTERÍSTICAS DE LOS ESTÁNDARES</a:t>
            </a:r>
            <a:endParaRPr b="1" lang="en-US" sz="40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667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ENTRARSE EN LO ACADÉMICO (DISCIPLINAS)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FOMENTAR QUE TODOS LOS ALUMNOS TENGAN UN CURRÍCULO BÁSICO COMÚN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REALISTAS CON EL TIEMPO DISPONIBLE PARA LA ENSEÑANZA</a:t>
            </a:r>
            <a:r>
              <a:rPr b="0" lang="es-ES" sz="2500" spc="-1" strike="noStrike">
                <a:solidFill>
                  <a:srgbClr val="000096"/>
                </a:solidFill>
                <a:latin typeface="TheSansCorrespondence"/>
              </a:rPr>
              <a:t>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TENER COMO REFERENCIA LOS ESTÁNDARES INTERNACIONALES DE CALIDAD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60AE-076B-4E2E-B51B-9384B90F54F2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623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CARACTERÍSTICAS ……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1294920"/>
            <a:ext cx="7596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COMBINAR CAPACIDADES SIN PRIVILEGIARLA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COMPRENDIDOS POR TODOS LOS INTERESADOS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SER EL RESULTADO DE UN PROCESO INTERACTIVO DE COMENTARIOS, RETROALIMENTACIÓN Y REVISIÓN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96"/>
                </a:solidFill>
                <a:latin typeface="TheSansCorrespondence"/>
              </a:rPr>
              <a:t>NO DEBEN ESTAR LIMITADOS AL CURRÍCULO OFICIAL  </a:t>
            </a: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C93E-DE11-4C01-981C-C1EEB2C171EE}" type="slidenum">
              <a:t>8</a:t>
            </a:fld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620280"/>
            <a:ext cx="813744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¿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QUÉ </a:t>
            </a:r>
            <a:r>
              <a:rPr b="1" lang="es-ES_tradnl" sz="3600" spc="-1" strike="noStrike">
                <a:solidFill>
                  <a:srgbClr val="ff0000"/>
                </a:solidFill>
                <a:latin typeface="TheSansCorrespondence"/>
              </a:rPr>
              <a:t>NO</a:t>
            </a:r>
            <a:r>
              <a:rPr b="1" lang="es-ES_tradnl" sz="3600" spc="-1" strike="noStrike">
                <a:solidFill>
                  <a:srgbClr val="000096"/>
                </a:solidFill>
                <a:latin typeface="TheSansCorrespondence"/>
              </a:rPr>
              <a:t> SON LOS ESTÁNDARES?</a:t>
            </a:r>
            <a:endParaRPr b="1" lang="en-US" sz="36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2360" y="170028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 programa ni syllabu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on una lista de actividade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la didáctica a emple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prescriben un orden o secuenci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recomiendan bibliografía alguna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especifican materiales a us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indican cómo evaluar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0f5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6"/>
                </a:solidFill>
                <a:latin typeface="TheSansCorrespondence"/>
              </a:rPr>
              <a:t>No sustituyen a otros documentos</a:t>
            </a: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6"/>
              </a:solidFill>
              <a:latin typeface="TheSansCorresponden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AADB-58FD-4F14-BCDC-ABB28887D970}" type="slidenum">
              <a:t>9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9:57Z</dcterms:created>
  <dc:creator>Alexis Sifuentes Alarcon</dc:creator>
  <dc:description/>
  <dc:language>en-US</dc:language>
  <cp:lastModifiedBy>Hildebrando Luque</cp:lastModifiedBy>
  <cp:lastPrinted>2004-05-05T15:40:35Z</cp:lastPrinted>
  <dcterms:modified xsi:type="dcterms:W3CDTF">2006-08-05T18:37:17Z</dcterms:modified>
  <cp:revision>358</cp:revision>
  <dc:subject/>
  <dc:title>Sin título de diapositiva</dc:title>
</cp:coreProperties>
</file>