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3794040" y="-36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899640" y="745920"/>
            <a:ext cx="487548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6"/>
                </a:solidFill>
                <a:latin typeface="TheSansCorrespondence"/>
              </a:rPr>
              <a:t>Click to move the slide</a:t>
            </a: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09360" y="4700520"/>
            <a:ext cx="485460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0" y="932472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3794040" y="932472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888C6FFD-B604-4F3B-8874-F9A9C3F13CF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794040" y="932472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5B3DCB5A-DECE-4AE7-A040-32C092151BC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932472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-36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794040" y="-36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794040" y="932472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50902D95-B98B-4002-89E9-F3D248882E1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932472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-36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94040" y="-36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AC671-6793-4FC9-B18F-6D79776558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752480" y="372996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5B47D-2CE7-4FBD-91DC-A61F4A3157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6680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584BD-0441-4A6B-ACB3-782281AB0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07124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964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75248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07124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8964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95401-5EB4-4C82-82DF-816EC1203F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5D8A3-4135-4D3A-8F5C-6913CF75E1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7B716-51EA-43E2-AB8B-0E3AC61C18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32224-9AFB-4638-8A80-51CE4B6854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C6ABE-2ECC-4D37-BDCB-3519F15DE8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51818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7E6FB-F585-41C0-B75D-FE2D7D8277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17BA1-16E5-41B1-A3CB-A3D2760EEE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6680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9BF3C-C627-4DD4-BC04-309654815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1020E-4556-43DD-86D7-A0FCC9DC2F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solidFill>
            <a:srgbClr val="000e8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Click to edit the outline text format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1" marL="743040" indent="-28584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Second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2" marL="1143000" indent="-22860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Third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3" marL="1600200" indent="-22860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Four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4" marL="2057400" indent="-22860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Fif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5" marL="2057400" indent="-228600">
              <a:spcBef>
                <a:spcPts val="550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Six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6" marL="2057400" indent="-228600">
              <a:spcBef>
                <a:spcPts val="550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Seven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6"/>
                </a:solidFill>
                <a:latin typeface="TheSansCorrespondence"/>
              </a:rPr>
              <a:t>Click to edit the title text format</a:t>
            </a: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0592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96"/>
                </a:solidFill>
                <a:latin typeface="TheSansCorresponden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456C-89FE-4F2B-8149-F7F82B3C3989}" type="slidenum">
              <a:rPr b="0" lang="es-ES_tradnl" sz="1200" spc="-1" strike="noStrike">
                <a:solidFill>
                  <a:srgbClr val="000096"/>
                </a:solidFill>
                <a:latin typeface="TheSansCorresponden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52480" y="6477120"/>
            <a:ext cx="0" cy="30456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304920" y="457200"/>
          <a:ext cx="76176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57200"/>
                    <a:ext cx="7617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304920" y="13716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22680" y="2209680"/>
            <a:ext cx="1332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heSansCorrespondence"/>
              </a:rPr>
              <a:t>COMPROMISO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heSansCorrespondence"/>
              </a:rPr>
              <a:t>CON LA SOCIEDA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rcRect l="24970" t="59303" r="21982" b="9492"/>
          <a:stretch/>
        </p:blipFill>
        <p:spPr>
          <a:xfrm>
            <a:off x="146160" y="5916600"/>
            <a:ext cx="1143000" cy="67320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755720" y="6377040"/>
            <a:ext cx="1928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33cc"/>
                </a:solidFill>
                <a:latin typeface="TheSansCorresponden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cc"/>
                </a:solidFill>
                <a:latin typeface="TheSansCorrespondence"/>
              </a:rPr>
              <a:t>Fundaci</a:t>
            </a:r>
            <a:r>
              <a:rPr b="0" lang="es-ES" sz="1200" spc="-1" strike="noStrike">
                <a:solidFill>
                  <a:srgbClr val="0033cc"/>
                </a:solidFill>
                <a:latin typeface="TheSansCorrespondence"/>
                <a:ea typeface="ＭＳ Ｐゴシック"/>
              </a:rPr>
              <a:t>ón </a:t>
            </a:r>
            <a:r>
              <a:rPr b="0" lang="es-ES" sz="1200" spc="-1" strike="noStrike">
                <a:solidFill>
                  <a:srgbClr val="0033cc"/>
                </a:solidFill>
                <a:latin typeface="TheSansCorrespondence"/>
              </a:rPr>
              <a:t>Telefónica </a:t>
            </a:r>
            <a:r>
              <a:rPr b="0" lang="es-PE" sz="1200" spc="-1" strike="noStrike">
                <a:solidFill>
                  <a:srgbClr val="0033cc"/>
                </a:solidFill>
                <a:latin typeface="TheSansCorrespondence"/>
              </a:rPr>
              <a:t>Per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5334120" y="2590920"/>
            <a:ext cx="2441520" cy="2441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El Peinador de la Reina"/>
          <p:cNvPicPr/>
          <p:nvPr/>
        </p:nvPicPr>
        <p:blipFill>
          <a:blip r:embed="rId2"/>
          <a:srcRect l="9271" t="0" r="9271" b="7052"/>
          <a:stretch/>
        </p:blipFill>
        <p:spPr>
          <a:xfrm>
            <a:off x="1447920" y="3886200"/>
            <a:ext cx="1141200" cy="1144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038480" y="2583000"/>
            <a:ext cx="115092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1447920" y="2590920"/>
          <a:ext cx="1144440" cy="1144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2590920"/>
                    <a:ext cx="114444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250920" y="685800"/>
            <a:ext cx="8893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64"/>
                </a:solidFill>
                <a:latin typeface="TheSansCorrespondence"/>
              </a:rPr>
              <a:t>UNA ALTERNATIVA DE FUTURO: </a:t>
            </a:r>
            <a:endParaRPr b="0" lang="en-US" sz="3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64"/>
                </a:solidFill>
                <a:latin typeface="TheSansCorrespondence"/>
              </a:rPr>
              <a:t>LA EVALUACIÓN BASADA EN ESTÁNDARES</a:t>
            </a:r>
            <a:endParaRPr b="0" lang="en-US" sz="3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5149800"/>
            <a:ext cx="384804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heSansCorrespondence"/>
              </a:rPr>
              <a:t>03 de agosto del 2006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heSansCorrespondence"/>
              </a:rPr>
              <a:t>Hildebrando Luque Freire, M.Sc.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18040" y="6273720"/>
            <a:ext cx="171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TheSansCorrespondence"/>
              </a:rPr>
              <a:t>Fundaci</a:t>
            </a:r>
            <a:r>
              <a:rPr b="0" lang="es-ES_tradnl" sz="1000" spc="-1" strike="noStrike">
                <a:solidFill>
                  <a:srgbClr val="0033cc"/>
                </a:solidFill>
                <a:latin typeface="TheSansCorrespondence"/>
                <a:ea typeface="ＭＳ Ｐゴシック"/>
              </a:rPr>
              <a:t>ón</a:t>
            </a:r>
            <a:r>
              <a:rPr b="0" lang="es-ES_tradnl" sz="1000" spc="-1" strike="noStrike">
                <a:solidFill>
                  <a:srgbClr val="0033cc"/>
                </a:solidFill>
                <a:latin typeface="TheSansCorrespondence"/>
              </a:rPr>
              <a:t>Telefónica Perú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4680" y="632448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4038480" y="3886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2743200" y="2590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2743200" y="38862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734080" y="2889360"/>
            <a:ext cx="163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heSansCorrespondence"/>
              </a:rPr>
              <a:t>C</a:t>
            </a:r>
            <a:r>
              <a:rPr b="0" lang="es-ES" sz="1300" spc="-1" strike="noStrike">
                <a:solidFill>
                  <a:srgbClr val="ffffff"/>
                </a:solidFill>
                <a:latin typeface="TheSansCorrespondence"/>
              </a:rPr>
              <a:t>OMPROMISO </a:t>
            </a:r>
            <a:endParaRPr b="0" lang="en-US" sz="13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heSansCorrespondence"/>
              </a:rPr>
              <a:t>CON LA SOCIEDAD</a:t>
            </a:r>
            <a:endParaRPr b="0" lang="en-US" sz="13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4038480" y="3884760"/>
            <a:ext cx="1144800" cy="1144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FC7C5-AB33-43A2-83F4-49B126A3608C}" type="slidenum">
              <a:t>1</a:t>
            </a:fld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DIFERENCIA  ENTRE </a:t>
            </a:r>
            <a:br>
              <a:rPr sz="4000"/>
            </a:b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CRITERIO Y ESTÁNDAR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92360" y="1905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heSansCorrespondence"/>
              </a:rPr>
              <a:t>CRITERIO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: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DESCRIPTOR DEL ATRIBUTO DE UN OBJET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heSansCorrespondence"/>
              </a:rPr>
              <a:t>ESTÁNDAR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: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ANTIDAD DEL ATRIBUTO NECESARIO PARA EMITIR UN JUICI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5DEEF-286D-4B05-9BD6-7255F8C7B06E}" type="slidenum">
              <a:t>10</a:t>
            </a:fld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¿CÓMO CONSTRUIR LOS ESTÁNDARES DE UN ÁREA?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03280" y="1413000"/>
            <a:ext cx="7740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ULTAR LOS ESTÁNDARES DE OTROS PAÍS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ULTAR LOS PROGRAMAS QUE EL COLEGIO VIENE DESARROLAND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CILIAR AMBAS FUENTES REDACTANDO LOS PRIMEROS BORRADORES DE LOS ESTÁNDAR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ULTAR EL PROYECTO DE ESTÁNDARES ELABORADO CON LOS PROFESORES DEL ÁRE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B5CEA-2177-47D7-A3A7-57C280933AD1}" type="slidenum">
              <a:t>11</a:t>
            </a:fld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ESTÁNDARES EDUCATIVO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858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TÁNDARES CURRICULAR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TÁNDARES DE EJECU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TÁNDARES PEDAGÓGICO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73B18-9840-4BC4-94A6-7C6BF3375E72}" type="slidenum">
              <a:t>12</a:t>
            </a:fld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ESTÁNDARES CURRICULARE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47640" y="1989000"/>
            <a:ext cx="73454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DESCRIPCIÓN DE METAS MÁXIMAS DE EXIGENCIA ACADÉMICA QUE SE CONSTITUYEN EN PILARES DEL MEJORAMIENTO CUALITATIVO DE LA EDUC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97AE5-103B-4522-A01C-F2C7BEF6FEF7}" type="slidenum">
              <a:t>13</a:t>
            </a:fld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heSansCorrespondence"/>
              </a:rPr>
              <a:t>ESTÁNDARES CURRICULARES EN MATEMÁTICAS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63640" y="1905120"/>
            <a:ext cx="685800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.   NÚMERO Y OPERACION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I.  ÁLGEBR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II. GEOMETRÍA  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V. MEDID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V.  MATEMÁTICAS DISCRET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ACFA5-F8F1-44E1-9168-5BE0A49B5816}" type="slidenum">
              <a:t>14</a:t>
            </a:fld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752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TheSansCorrespondence"/>
              </a:rPr>
              <a:t>ESTÁNDAR CURRICULAR DE MATEMÁTICAS PARA 5º GRADO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92000" y="1484280"/>
            <a:ext cx="745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I.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NÚMERO Y OPERACION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I -1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MPRENDER LOS NÚMEROS, SUS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PROPIEDADES, REPRESENTACIÓN,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RELACIONES Y LOS SISTEMAS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NUMÉRIC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I -1- (a)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 USAR MODELOS, REFERENCIAS Y FORMAS EQUIVALENTES PARA JUZGAR EL TAMAÑO DE LAS FRACCIONES USANDO DECIMALES Y PORCENTAJES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711F2-4414-4607-BA7A-B5B7F538EAF3}" type="slidenum">
              <a:t>15</a:t>
            </a:fld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0" y="62064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ESTÁNDARES DE EJECUCIÓN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63640" y="1989000"/>
            <a:ext cx="6858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PECIFICACIÓN DE LAS HABILIDADES Y APTITUDES QUE LOS ESTUDIANTES DEBEN APRENDER EN RELACIÓN CON CADA ESTÁNDAR DE CONTENID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446AA-DDC4-40DF-B16E-F3C6124E7BFF}" type="slidenum">
              <a:t>16</a:t>
            </a:fld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TheSansCorrespondence"/>
              </a:rPr>
              <a:t>ESTÁNDARES DE EJECUCIÓN EN MATEMÁTICA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92360" y="2060640"/>
            <a:ext cx="68580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RESOLUCIÓN DE PROBLEM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RAZONAMIENTO Y DEMOSTR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COMUNIC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CONEXION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REPRESENT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5C4C6-9C5F-4AF5-B3D6-B9515FFA3B1A}" type="slidenum">
              <a:t>17</a:t>
            </a:fld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47280" y="228600"/>
            <a:ext cx="759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ESTÁNDARES PEDAGÓGICO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18920" y="1268280"/>
            <a:ext cx="7140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Lineamientos para: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PROMOVER ACTIVIDADES QUE IMPULSEN UN CLIMA DE COOPERACIÓN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FACILITAR LAS CONEXIONES ENTRE LO QUE SE ENSEÑA Y LO QUE RODEA AL ESTUDIANTE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FORTALECER EL APRENDIZAJE DE PROCEDIMIENTOS Y AUTOMATISMO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0DBCD-FE29-4361-8F84-D0853B41FB71}" type="slidenum">
              <a:t>18</a:t>
            </a:fld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47280" y="228600"/>
            <a:ext cx="759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TheSansCorrespondence"/>
              </a:rPr>
              <a:t>ESTÁNDARES PEDAGÓGICOS EN MATEMÁTICA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47280" y="1557360"/>
            <a:ext cx="7380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NSEÑANDO CON TECNOLOGÍ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APRENDIZAJE ACTIV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HACIENDO CONEXION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USANDO APROXIMACIONES MÚLTIPL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XPERIMENTANDO LAS MATEMÁTIC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CLASES INTERACTIV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1B2AC-6DE9-4313-B9E7-398D790BAB36}" type="slidenum">
              <a:t>19</a:t>
            </a:fld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SOCIEDAD DEL CONOCIMIENTO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858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0000"/>
                </a:solidFill>
                <a:latin typeface="TheSansCorrespondence"/>
              </a:rPr>
              <a:t>META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REALIZACIÓN PERSONAL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CIUDADANÍA ACTIVA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EMPLEABILIDAD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0000"/>
                </a:solidFill>
                <a:latin typeface="TheSansCorrespondence"/>
              </a:rPr>
              <a:t>ÉNFASI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De ENSEÑAR a </a:t>
            </a:r>
            <a:r>
              <a:rPr b="1" lang="es-ES_tradnl" sz="2500" spc="-1" strike="noStrike">
                <a:solidFill>
                  <a:srgbClr val="00cc99"/>
                </a:solidFill>
                <a:latin typeface="TheSansCorrespondence"/>
              </a:rPr>
              <a:t>APRENDER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De DESARROLLO DEL CONOCIMIENTO al de APTITUDE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AD33F-037C-4D20-A40F-C2E922D2CDE2}" type="slidenum">
              <a:t>2</a:t>
            </a:fld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APRENDIZAJE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47280" y="1294920"/>
            <a:ext cx="7596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UN ESTUDIANTE APRENDE CUANDO PIENSA ACTIVAMENTE CONSTRUYENDO Y DESARROLLANDO MODELOS MENTALES EXPLICATIVOS QUE LE PERMITEN ADAPTARSE ANTE SITUACIONES INESPERADA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ctr">
              <a:lnSpc>
                <a:spcPct val="13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3300" spc="-1" strike="noStrike">
                <a:solidFill>
                  <a:srgbClr val="000096"/>
                </a:solidFill>
                <a:latin typeface="TheSansCorrespondence"/>
              </a:rPr>
              <a:t>EVALUACIÓN DEL APRENDIZAJE</a:t>
            </a:r>
            <a:endParaRPr b="0" lang="en-US" sz="33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INVESTIGACIÓN SISTEMÁTICA QUE ABARCA TODOS LOS MÉTODOS USADOS PARA VALORAR O JUZGAR LA EFICIENCIA DE UNA PERSONA O DE UN GRUPO A TRAVÉS DE PRUEBAS, DOCUMENTACIÓN, SEGUIMIENTO O MONITOREO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496CC-26F9-44EB-AB3F-A7A70F486091}" type="slidenum">
              <a:t>20</a:t>
            </a:fld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ÉNFASIS EN LA EVALUACIÓN DE LOS APRENDIZAJE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640" y="1412640"/>
            <a:ext cx="6858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DE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DETERMINAR LA AUSENCIA DE UN FRAGMENTO DE INFORMACIÓN  </a:t>
            </a: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A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ÓMO SE ORGANIZA, ESTRUCTURA Y USA ESA INFORMACIÓN PARA RESOLVER PROBLEMAS COMPLEJ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DE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LOS TRADICIONALES EXÁMENES </a:t>
            </a: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LA EVALUACIÓN BASADA EN ESTÁNDARES DE DESEMPEÑ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41059-D19F-4E87-9900-7CCC448C9E19}" type="slidenum">
              <a:t>21</a:t>
            </a:fld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EVALUACIÓN BASADA EN ESTÁNDARES (EBE)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47640" y="1484280"/>
            <a:ext cx="734544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LA 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BE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ESTÁ CONSTITUIDA POR UN GRAN GRUPO DE MÉTODOS DE EVALUACIÓN LIGADOS AL PENSAMIENTO CRITERIA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96"/>
                </a:solidFill>
                <a:latin typeface="TheSansCorrespondence"/>
              </a:rPr>
              <a:t>LA </a:t>
            </a:r>
            <a:r>
              <a:rPr b="1" lang="es-ES" sz="2200" spc="-1" strike="noStrike">
                <a:solidFill>
                  <a:srgbClr val="ff3300"/>
                </a:solidFill>
                <a:latin typeface="TheSansCorrespondence"/>
              </a:rPr>
              <a:t>EBE</a:t>
            </a:r>
            <a:r>
              <a:rPr b="1" lang="es-ES" sz="2200" spc="-1" strike="noStrike">
                <a:solidFill>
                  <a:srgbClr val="000096"/>
                </a:solidFill>
                <a:latin typeface="TheSansCorrespondence"/>
              </a:rPr>
              <a:t> PERMITE CENTRAR EL ESFUERZO DE LOS EDUCADORES Y LOS ESTUDIANTES EN METAS DE DESEMPEÑO ESPECÍFICA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L FIN DE LA 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BE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ES AYUDAR A LOS ESTUDIANTES A CUMPLIR CON LOS ESTÁNDARES MIDIENDO SU PROGRESO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9678F-A106-4FD6-9551-848BFF89D328}" type="slidenum">
              <a:t>22</a:t>
            </a:fld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RETOS PARA LOS SISTEMAS DE EBE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858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CONSTRUIR UN CONSENSO NACIONAL, REGIONAL, LOCAL O INSTITUCIONA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STABLECER ESTÁNDARES DE ALTO NI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ALINEAR LOS ESTÁNDARES CON LE ENSEÑANZA Y LA EVALUACIÓN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ASEGURAR MEDICIONES PRECISA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INCLUIR A TODOS LOS ESTUDIANTE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CONSTRUIR CAPACIDAD LOCA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STIMAR COSTO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NCARAR RETOS LEGALE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F250B-DC20-46BE-AA11-3A2C913BD8EC}" type="slidenum">
              <a:t>23</a:t>
            </a:fld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6"/>
                </a:solidFill>
                <a:latin typeface="TheSansCorrespondence"/>
              </a:rPr>
              <a:t>¿CÓMO SE DISEÑA UNA PRUEBA DE EVALUACIÓN BASADA EN ESTÁNDARES?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63640" y="2420640"/>
            <a:ext cx="6858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IDENTIFICAR LOS CONTENIDOS DE CADA ESTÁNDAR CURRICULAR: CONCEPTOS Y PROCEDIMIENT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AJUSTAR EL NÚMERO DE PREGUNTAS PARA REPRESENTAR A LOS ESTÁNDARES Y SUS CONTENIDOS, Y AL TIEMPO DISPONIBLE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4F58D-B2E2-4682-A493-0F1D9B08A717}" type="slidenum">
              <a:t>24</a:t>
            </a:fld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CONSTRUCCIÓN O ELECCIÓN DE LAS PREGUNTA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640" y="1557360"/>
            <a:ext cx="6858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TRUIR PREGUNTAS EN BASE A LA EXPERIENCIA PREVI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ELEGIR PREGUNTAS DE UN BANCO DE PREGUNTAS ESTANDARIZADA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CRITERI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RADO DE DIFICULTAD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PODER DISCRIMINADO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TIEMPO-ALUMNO DE RESOLUCIÓN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02F5D-27E3-4841-BAFB-130D4460C770}" type="slidenum">
              <a:t>25</a:t>
            </a:fld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CALIFICACIÓN DE LA PRUEBA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76000" y="1052640"/>
            <a:ext cx="7667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A CARGO DE UNA COMISIÓN EXTERNA O INTERN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USO DE TARJETAS PARA LECTURA ÓPTICA O CALIFICACIÓN MANUAL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ADJUDICAR UN CÓDIGO PARA CADA ALUMNO VÁLIDO PARA TODA SU ESCOLARIDAD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ENERAR UNA BASE DE DATOS USANDO CÓDIGOS, APELLIDOS Y NOMBRES, PREGUNTAS Y RESPUESTAS (BIEN, MAL, NO CONTESTADA)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7930D-74D2-48FE-906D-537CC1D9BB32}" type="slidenum">
              <a:t>26</a:t>
            </a:fld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92360" y="228600"/>
            <a:ext cx="7200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ANÁLISIS DE LOS DATO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6000" y="1294920"/>
            <a:ext cx="7667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PROCESAMIENTO ESTADÍSTICO DE LOS DATOS PARA: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INFORMAR A LOS ESTUDIANTES Y PADRES SOBRE EL RENDIMIENTO INDIVIDUAL PARA LA ORIENTACIÓN POSTERIOR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INFORMAR A LOS PROFESORES Y DIRECTIVOS DE LA DISTRIBUCIÓN DE LOGROS EN LA TOTALIDAD DEL GRUPO PARA LA APLICACIÓN DE ESTRATEGIAS DE APRENDIZAJE COHERENTE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GRADO DE DIFICULTAD Y PODER DISCRIMINADOR DE CADA PREGUNTA PLANTEADA PARA LA CONSTRUCCIÓN DE UN BANCO DE PREGUNTA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ED3DC-2A23-46FB-AE32-56C891CF4BBA}" type="slidenum">
              <a:t>27</a:t>
            </a:fld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INDICADORES ESTADÍSTICOS SOBRE TODOS LOS ALUMNOS DE UN SALÓN</a:t>
            </a:r>
            <a:br>
              <a:rPr sz="3600"/>
            </a:b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08000" y="2349000"/>
            <a:ext cx="6858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ALIFICATIVO PROMEDI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ALIFICATIVO MÍNIM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ALIFICATIVO MÁXIM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DESVIACIÓN ESTÁNDAR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HISTOGRAMA DE FRECUENCI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A5B6C-302B-4547-871A-914318D9CF22}" type="slidenum">
              <a:t>28</a:t>
            </a:fld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6"/>
                </a:solidFill>
                <a:latin typeface="TheSansCorrespondence"/>
              </a:rPr>
              <a:t>INDICADOR ESTADÍSTICO SOBRE CADA PREGUNTA DE LA PRUEBA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6000" y="1413000"/>
            <a:ext cx="7667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CADA PREGUNTA ES CONTESTADA POR CADA ALUMNO BIEN (B),  MAL  (M) O NO ES CONTESTADA  (NC)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CADA PREGUNTA RECIBE UNA ETIQUETA: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heSansCorrespondence"/>
              </a:rPr>
              <a:t>DEFICIENTE (D)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67%   a   100% CONTESTA MAL O NO CONTESTA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heSansCorrespondence"/>
              </a:rPr>
              <a:t>MAL (M)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36%   a   66% CONTESTA MAL O NO CONTESTA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heSansCorrespondence"/>
              </a:rPr>
              <a:t>BIEN (B) 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0%   a   35% CONTESTA MAL O NO CONTESTA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SE IDENTIFICA AQUELLOS CONTENIDOS O PROCEDIMIENTOS QUE ESTÁN  </a:t>
            </a:r>
            <a:r>
              <a:rPr b="1" lang="es-ES_tradnl" sz="1800" spc="-1" strike="noStrike">
                <a:solidFill>
                  <a:srgbClr val="ff3300"/>
                </a:solidFill>
                <a:latin typeface="TheSansCorrespondence"/>
              </a:rPr>
              <a:t>MAL 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O  </a:t>
            </a:r>
            <a:r>
              <a:rPr b="1" lang="es-ES_tradnl" sz="1800" spc="-1" strike="noStrike">
                <a:solidFill>
                  <a:srgbClr val="ff3300"/>
                </a:solidFill>
                <a:latin typeface="TheSansCorrespondence"/>
              </a:rPr>
              <a:t>DEFICIENTES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 Y DEBEN SER REFORZADOS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9F02C-9047-47A6-B530-5817CCB05923}" type="slidenum">
              <a:t>29</a:t>
            </a:fld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3280" y="620640"/>
            <a:ext cx="7740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SISTEMAS EDUCATIVO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47280" y="1294920"/>
            <a:ext cx="7417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</a:t>
            </a:r>
            <a:r>
              <a:rPr b="1" lang="es-ES_tradnl" sz="2800" spc="-1" strike="noStrike">
                <a:solidFill>
                  <a:srgbClr val="ff0000"/>
                </a:solidFill>
                <a:latin typeface="TheSansCorrespondence"/>
              </a:rPr>
              <a:t>ESTÁNDARES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 Y LA </a:t>
            </a:r>
            <a:r>
              <a:rPr b="1" lang="es-ES_tradnl" sz="2800" spc="-1" strike="noStrike">
                <a:solidFill>
                  <a:srgbClr val="ff0000"/>
                </a:solidFill>
                <a:latin typeface="TheSansCorrespondence"/>
              </a:rPr>
              <a:t>EVALUACIÓN 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SON INSTRUMENTOS CLAVES PARA DEFINIR LAS POLÍTICAS APROPIADAS PARA EL MEJORAMIENTO DE LA CALIDAD EDUCATIV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946CF-85B9-4F9E-98A5-B1C4D5397C05}" type="slidenum">
              <a:t>3</a:t>
            </a:fld>
          </a:p>
        </p:txBody>
      </p:sp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0" y="228240"/>
            <a:ext cx="7667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6"/>
                </a:solidFill>
                <a:latin typeface="TheSansCorrespondence"/>
              </a:rPr>
              <a:t>INDICADOR ESTADÍSTICO SOBRE TODA LA PRUEBA EN UN SALÓN:</a:t>
            </a:r>
            <a:br>
              <a:rPr sz="3200"/>
            </a:br>
            <a:r>
              <a:rPr b="1" lang="es-ES_tradnl" sz="3200" spc="-1" strike="noStrike">
                <a:solidFill>
                  <a:srgbClr val="ff3300"/>
                </a:solidFill>
                <a:latin typeface="TheSansCorrespondence"/>
              </a:rPr>
              <a:t>ÍNDICE DE ACIERTOS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7280" y="1844640"/>
            <a:ext cx="7596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XISTE UN UNIVERSO DE RESPUESTAS SEGÚN EL NÚMERO DE PREGUNTAS DE LA PRUEBA Y EL NÚMERO DE ALUMNOS QUE RINDE LA MISMA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6"/>
                </a:solidFill>
                <a:latin typeface="TheSansCorrespondence"/>
              </a:rPr>
              <a:t>20 respuestas/alumno x 30 alumnos/salón = 600 respta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ACIERTOS (B)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120   20%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RRADAS (M)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180   30%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NO CONTESTADAS (NC)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300   50%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SE DEBERÍA TENDER A UN ÍNDICE DE ACIERTOS DE 80%  O SUPERIOR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283C2-4D5B-4271-9FFE-A4B3EB24D42B}" type="slidenum">
              <a:t>30</a:t>
            </a:fld>
          </a:p>
        </p:txBody>
      </p:sp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19280" y="228240"/>
            <a:ext cx="752472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NIVEL DE DIFICULTAD DE CADA PREGUNTA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47280" y="3499920"/>
            <a:ext cx="7596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PROPORCIÓN DE ESTUDIANTES QUE RESPONDEN CORRECTAMENTE LA PREGUNTA 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CRITERIO: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NIVEL MEDIO DE DIFICULTAD  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0.5 &lt; p &lt; 0.6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411280" y="1916280"/>
          <a:ext cx="5616720" cy="122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916280"/>
                    <a:ext cx="5616720" cy="12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BE9F0-0FEE-478E-96BA-BED51D417D07}" type="slidenum">
              <a:t>31</a:t>
            </a:fld>
          </a:p>
        </p:txBody>
      </p:sp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03280" y="299880"/>
            <a:ext cx="7740720" cy="14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ÍNDICE DE DISCRIMINACIÓN DE CADA PREGUNTA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6360" y="2205000"/>
            <a:ext cx="739152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UNA BUENA PREGUNTA DEBE DISCRIMINAR ENTRE LOS QUE OBTIENEN ALTAS Y BAJAS CALIFICACION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RUPO ALTO (GA) = 27% X TOTAL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RUPO BAJO (GB) = 27% X TOTAL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700360" y="5157720"/>
          <a:ext cx="517356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5157720"/>
                    <a:ext cx="51735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6F3E3-1D7E-4ECB-8D60-46C1E8D94C7C}" type="slidenum">
              <a:t>32</a:t>
            </a:fld>
          </a:p>
        </p:txBody>
      </p:sp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360" y="228600"/>
            <a:ext cx="62323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RITERIOS PARA EL ÍNDICE DE DISCRIMINACIÓN  (D)</a:t>
            </a:r>
            <a:br>
              <a:rPr sz="2800"/>
            </a:br>
            <a:br>
              <a:rPr sz="2000"/>
            </a:br>
            <a:r>
              <a:rPr b="0" lang="es-ES_tradnl" sz="3200" spc="-1" strike="noStrike">
                <a:solidFill>
                  <a:srgbClr val="000096"/>
                </a:solidFill>
                <a:latin typeface="TheSansCorrespondence"/>
              </a:rPr>
              <a:t>-1 &lt; D &lt; 1</a:t>
            </a:r>
            <a:br>
              <a:rPr sz="3200"/>
            </a:b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03280" y="2637000"/>
            <a:ext cx="7740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39 - 1.00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XCELENTE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CONSERVAR PREGUNTA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30 - 0.39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BUENA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POSIBILIDAD MEJORA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20 - 0.29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REGULAR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NECESIDAD REVISAR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00 - 0.20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POBRE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DESCARTAR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-1 -  0.00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PÉSIMA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DESCARTAR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DEFINITIVAMENTE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5444A-CFAA-4692-9DFE-5D920DC6BB59}" type="slidenum">
              <a:t>33</a:t>
            </a:fld>
          </a:p>
        </p:txBody>
      </p: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REPORT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47280" y="1052640"/>
            <a:ext cx="7596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heSansCorrespondence"/>
              </a:rPr>
              <a:t>AL ALUMNO</a:t>
            </a: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: SU CALIFICATIVO, TEMAS DÉBILES Y RECOMENDACIONE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heSansCorrespondence"/>
              </a:rPr>
              <a:t>AL PROFESOR</a:t>
            </a: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: LISTA DE SUS ALUMNOS, CALIFICATIVOS, HISTOGRAMA, MEDIA, MÍNIMA, MÁXIMA, DESVIACIÓN ESTÁNDAR, IDENTIFICACIÓN DE TEMAS A REVISAR, ÍNDICE DE ACIERTO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heSansCorrespondence"/>
              </a:rPr>
              <a:t>A LOS DIRECTIVOS</a:t>
            </a: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: LO MISMO QUE AL PROFESOR PERO DE TODOS LOS CURSOS Y GRADOS, ADEMÁS DE LOS GRADOS DE DIFICULTAD Y PODER DISCRIMINADOR DE CADA PREGUNTA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78F77-99F8-4C08-9B44-7E1B81977E80}" type="slidenum">
              <a:t>34</a:t>
            </a:fld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10d82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561960" y="590400"/>
              <a:ext cx="8020080" cy="567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0E65A-8182-466E-ACA5-ED728E71C8BD}" type="slidenum">
              <a:t>35</a:t>
            </a:fld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92360" y="620640"/>
            <a:ext cx="6232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ESTÁNDAR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92360" y="1905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nunciados que proveen descripciones claras y específicas de las habilidades y conocimientos que los estudiantes deben lograr en su proceso de aprendizaje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B4501-DD12-4379-AE23-16533081D5B2}" type="slidenum">
              <a:t>4</a:t>
            </a:fld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¿QUIÉNES FIJAN LOS ESTÁNDARES?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19280" y="2421000"/>
            <a:ext cx="6858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A GENTE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PROFESOR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EXPERTO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EVALUADOR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AC425-180C-48F7-9E1A-A5D00347C571}" type="slidenum">
              <a:t>5</a:t>
            </a:fld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CARACTERÍSTICA GENERAL </a:t>
            </a:r>
            <a:br>
              <a:rPr sz="4000"/>
            </a:b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DE LOS ESTÁNDAR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6360" y="1844640"/>
            <a:ext cx="7416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ESTÁNDARES DEBEN SER LOS MISMOS PARA TODOS LOS NIÑOS Y JÓVENES SIN IMPORTAR SUS DIFERENCI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ALGUNOS ESTUDIANT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NECESITAN DE MÁS TIEMPO, 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OTROS DE MÁS INSTRUC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7CFAE-91CA-47E2-A5A1-A703321AA503}" type="slidenum">
              <a:t>6</a:t>
            </a:fld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752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CARACTERÍSTICAS DE LOS ESTÁNDAR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6000" y="1557360"/>
            <a:ext cx="7667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CENTRARSE EN LO ACADÉMICO (DISCIPLINAS)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FOMENTAR QUE TODOS LOS ALUMNOS TENGAN UN CURRÍCULO BÁSICO COMÚN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SER REALISTAS CON EL TIEMPO DISPONIBLE PARA LA ENSEÑANZA</a:t>
            </a:r>
            <a:r>
              <a:rPr b="0" lang="es-ES" sz="25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TENER COMO REFERENCIA LOS ESTÁNDARES INTERNACIONALES DE CALIDAD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DDEAD-680F-44CB-B6FC-CAB566289E9B}" type="slidenum">
              <a:t>7</a:t>
            </a:fld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92360" y="228600"/>
            <a:ext cx="6232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CARACTERÍSTICAS ……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7280" y="1294920"/>
            <a:ext cx="7596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COMBINAR CAPACIDADES SIN PRIVILEGIARLA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SER COMPRENDIDOS POR TODOS LOS INTERESADO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SER EL RESULTADO DE UN PROCESO INTERACTIVO DE COMENTARIOS, RETROALIMENTACIÓN Y REVISIÓN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NO DEBEN ESTAR LIMITADOS AL CURRÍCULO OFICIAL 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E94EE-AF95-47CF-BF15-C0382B7225D7}" type="slidenum">
              <a:t>8</a:t>
            </a:fld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6560" y="620280"/>
            <a:ext cx="81374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heSansCorrespondence"/>
              </a:rPr>
              <a:t>¿</a:t>
            </a: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QUÉ </a:t>
            </a:r>
            <a:r>
              <a:rPr b="1" lang="es-ES_tradnl" sz="3600" spc="-1" strike="noStrike">
                <a:solidFill>
                  <a:srgbClr val="ff0000"/>
                </a:solidFill>
                <a:latin typeface="TheSansCorrespondence"/>
              </a:rPr>
              <a:t>NO</a:t>
            </a: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 SON LOS ESTÁNDARES?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92360" y="170028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son un programa ni syllabu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son una lista de actividad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especifican la didáctica a emplea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prescriben un orden o secuenci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recomiendan bibliografía algun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especifican materiales a usa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indican cómo evalua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sustituyen a otros document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E61A3-38BC-4A1F-81ED-2C6632A5992E}" type="slidenum">
              <a:t>9</a:t>
            </a:fld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19:19:57Z</dcterms:created>
  <dc:creator>Alexis Sifuentes Alarcon</dc:creator>
  <dc:description/>
  <dc:language>en-US</dc:language>
  <cp:lastModifiedBy>Hildebrando Luque</cp:lastModifiedBy>
  <cp:lastPrinted>2004-05-05T15:40:35Z</cp:lastPrinted>
  <dcterms:modified xsi:type="dcterms:W3CDTF">2006-08-05T18:37:17Z</dcterms:modified>
  <cp:revision>358</cp:revision>
  <dc:subject/>
  <dc:title>Sin título de diapositiva</dc:title>
</cp:coreProperties>
</file>