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9.jpeg" ContentType="image/jpeg"/>
  <Override PartName="/ppt/media/image11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288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3"/>
          </p:nvPr>
        </p:nvSpPr>
        <p:spPr>
          <a:xfrm>
            <a:off x="3794040" y="-360"/>
            <a:ext cx="288144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lstStyle>
            <a:lvl1pPr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899640" y="745920"/>
            <a:ext cx="4875480" cy="36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6"/>
                </a:solidFill>
                <a:latin typeface="TheSansCorrespondence"/>
              </a:rPr>
              <a:t>Click to move the slide</a:t>
            </a: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09360" y="4700520"/>
            <a:ext cx="4854600" cy="440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4"/>
          </p:nvPr>
        </p:nvSpPr>
        <p:spPr>
          <a:xfrm>
            <a:off x="0" y="9324720"/>
            <a:ext cx="288288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5"/>
          </p:nvPr>
        </p:nvSpPr>
        <p:spPr>
          <a:xfrm>
            <a:off x="3794040" y="9324720"/>
            <a:ext cx="288144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AB95195A-201E-4C03-AA40-CC3E3615BCE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794040" y="9324720"/>
            <a:ext cx="288144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63437BAB-EF67-48F8-99E5-759DA6263AE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9324720"/>
            <a:ext cx="288288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-360"/>
            <a:ext cx="288288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794040" y="-360"/>
            <a:ext cx="288144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3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794040" y="9324720"/>
            <a:ext cx="288144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D9804941-E044-47C4-A8A5-6B9D876F4F8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9324720"/>
            <a:ext cx="288288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-360"/>
            <a:ext cx="288288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94040" y="-360"/>
            <a:ext cx="288144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0D95A-0EC5-42EC-906E-9754290E6F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6858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752480" y="3729960"/>
            <a:ext cx="6858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5D7BE-9E8C-4090-BAF3-FAF776C20A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66800" y="114300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752480" y="372996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66800" y="372996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A1997-3FD4-4CB7-9639-90EA1C72E4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071240" y="114300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89640" y="114300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752480" y="372996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071240" y="372996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89640" y="372996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07342-982C-4FCD-A5F0-68C7692F19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752480" y="114300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0D04C-8224-4864-9121-61A0EEEB59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EAD92-8E8D-4D52-8787-2D4DB4FC18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46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66800" y="1143000"/>
            <a:ext cx="3346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CFD1A-00EC-4BFE-B626-92D45F5E5E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B22CA-2B59-47EA-9A57-A36DABD14B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438280" y="228600"/>
            <a:ext cx="51818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CD731-88BC-4C21-8DEC-9C8B1A8A4E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66800" y="1143000"/>
            <a:ext cx="3346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752480" y="372996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82C9D-0235-4D13-B9F5-F57B8FB58D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46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66800" y="114300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266800" y="372996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47B51-0966-4D93-9370-E2B16C4C66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66800" y="114300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752480" y="3729960"/>
            <a:ext cx="6858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66C88-875F-422B-B3E9-00A30CA602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371600" cy="6858000"/>
          </a:xfrm>
          <a:prstGeom prst="rect">
            <a:avLst/>
          </a:prstGeom>
          <a:solidFill>
            <a:srgbClr val="000e88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752480" y="114300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6"/>
                </a:solidFill>
                <a:latin typeface="TheSansCorrespondence"/>
              </a:rPr>
              <a:t>Click to edit the outline text format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lvl="1" marL="743040" indent="-285840"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6"/>
                </a:solidFill>
                <a:latin typeface="TheSansCorrespondence"/>
              </a:rPr>
              <a:t>Second Outline Leve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lvl="2" marL="1143000" indent="-228600"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6"/>
                </a:solidFill>
                <a:latin typeface="TheSansCorrespondence"/>
              </a:rPr>
              <a:t>Third Outline Leve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lvl="3" marL="1600200" indent="-228600"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6"/>
                </a:solidFill>
                <a:latin typeface="TheSansCorrespondence"/>
              </a:rPr>
              <a:t>Fourth Outline Leve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lvl="4" marL="2057400" indent="-228600"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6"/>
                </a:solidFill>
                <a:latin typeface="TheSansCorrespondence"/>
              </a:rPr>
              <a:t>Fifth Outline Leve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lvl="5" marL="2057400" indent="-228600">
              <a:spcBef>
                <a:spcPts val="550"/>
              </a:spcBef>
              <a:buClr>
                <a:srgbClr val="00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6"/>
                </a:solidFill>
                <a:latin typeface="TheSansCorrespondence"/>
              </a:rPr>
              <a:t>Sixth Outline Leve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lvl="6" marL="2057400" indent="-228600">
              <a:spcBef>
                <a:spcPts val="550"/>
              </a:spcBef>
              <a:buClr>
                <a:srgbClr val="00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6"/>
                </a:solidFill>
                <a:latin typeface="TheSansCorrespondence"/>
              </a:rPr>
              <a:t>Seventh Outline Leve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6"/>
                </a:solidFill>
                <a:latin typeface="TheSansCorrespondence"/>
              </a:rPr>
              <a:t>Click to edit the title text format</a:t>
            </a: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305920" y="655272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96"/>
                </a:solidFill>
                <a:latin typeface="TheSansCorrespondenc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6A6C8-3E00-42CD-AD1E-AE4F0B338926}" type="slidenum">
              <a:rPr b="0" lang="es-ES_tradnl" sz="1200" spc="-1" strike="noStrike">
                <a:solidFill>
                  <a:srgbClr val="000096"/>
                </a:solidFill>
                <a:latin typeface="TheSansCorrespondenc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752480" y="6477120"/>
            <a:ext cx="0" cy="30456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304920" y="457200"/>
          <a:ext cx="761760" cy="76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457200"/>
                    <a:ext cx="76176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304920" y="1371600"/>
            <a:ext cx="761760" cy="76212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22680" y="2209680"/>
            <a:ext cx="13327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heSansCorrespondence"/>
              </a:rPr>
              <a:t>COMPROMISO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heSansCorrespondence"/>
              </a:rPr>
              <a:t>CON LA SOCIEDAD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5"/>
          <a:srcRect l="24970" t="59303" r="21982" b="9492"/>
          <a:stretch/>
        </p:blipFill>
        <p:spPr>
          <a:xfrm>
            <a:off x="146160" y="5916600"/>
            <a:ext cx="1143000" cy="67320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1755720" y="6377040"/>
            <a:ext cx="1928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33cc"/>
                </a:solidFill>
                <a:latin typeface="TheSansCorrespondenc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cc"/>
                </a:solidFill>
                <a:latin typeface="TheSansCorrespondence"/>
              </a:rPr>
              <a:t>Fundaci</a:t>
            </a:r>
            <a:r>
              <a:rPr b="0" lang="es-ES" sz="1200" spc="-1" strike="noStrike">
                <a:solidFill>
                  <a:srgbClr val="0033cc"/>
                </a:solidFill>
                <a:latin typeface="TheSansCorrespondence"/>
                <a:ea typeface="ＭＳ Ｐゴシック"/>
              </a:rPr>
              <a:t>ón </a:t>
            </a:r>
            <a:r>
              <a:rPr b="0" lang="es-ES" sz="1200" spc="-1" strike="noStrike">
                <a:solidFill>
                  <a:srgbClr val="0033cc"/>
                </a:solidFill>
                <a:latin typeface="TheSansCorrespondence"/>
              </a:rPr>
              <a:t>Telefónica </a:t>
            </a:r>
            <a:r>
              <a:rPr b="0" lang="es-PE" sz="1200" spc="-1" strike="noStrike">
                <a:solidFill>
                  <a:srgbClr val="0033cc"/>
                </a:solidFill>
                <a:latin typeface="TheSansCorrespondence"/>
              </a:rPr>
              <a:t>Per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.pn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5334120" y="2590920"/>
            <a:ext cx="2441520" cy="24415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El Peinador de la Reina"/>
          <p:cNvPicPr/>
          <p:nvPr/>
        </p:nvPicPr>
        <p:blipFill>
          <a:blip r:embed="rId2"/>
          <a:srcRect l="9271" t="0" r="9271" b="7052"/>
          <a:stretch/>
        </p:blipFill>
        <p:spPr>
          <a:xfrm>
            <a:off x="1447920" y="3886200"/>
            <a:ext cx="1141200" cy="1144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038480" y="2583000"/>
            <a:ext cx="115092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" name=""/>
          <p:cNvGraphicFramePr/>
          <p:nvPr/>
        </p:nvGraphicFramePr>
        <p:xfrm>
          <a:off x="1447920" y="2590920"/>
          <a:ext cx="1144440" cy="1144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47920" y="2590920"/>
                    <a:ext cx="1144440" cy="114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250920" y="685800"/>
            <a:ext cx="889308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64"/>
                </a:solidFill>
                <a:latin typeface="TheSansCorrespondence"/>
              </a:rPr>
              <a:t>UNA ALTERNATIVA DE FUTURO: </a:t>
            </a:r>
            <a:endParaRPr b="0" lang="en-US" sz="3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64"/>
                </a:solidFill>
                <a:latin typeface="TheSansCorrespondence"/>
              </a:rPr>
              <a:t>LA EVALUACIÓN BASADA EN ESTÁNDARES</a:t>
            </a:r>
            <a:endParaRPr b="0" lang="en-US" sz="3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71600" y="5149800"/>
            <a:ext cx="384804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heSansCorrespondence"/>
              </a:rPr>
              <a:t>03 de agosto del 2006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TheSansCorrespondence"/>
              </a:rPr>
              <a:t>Hildebrando Luque Freire, M.Sc.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18040" y="6273720"/>
            <a:ext cx="171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33cc"/>
                </a:solidFill>
                <a:latin typeface="TheSansCorrespondence"/>
              </a:rPr>
              <a:t>Fundaci</a:t>
            </a:r>
            <a:r>
              <a:rPr b="0" lang="es-ES_tradnl" sz="1000" spc="-1" strike="noStrike">
                <a:solidFill>
                  <a:srgbClr val="0033cc"/>
                </a:solidFill>
                <a:latin typeface="TheSansCorrespondence"/>
                <a:ea typeface="ＭＳ Ｐゴシック"/>
              </a:rPr>
              <a:t>ón</a:t>
            </a:r>
            <a:r>
              <a:rPr b="0" lang="es-ES_tradnl" sz="1000" spc="-1" strike="noStrike">
                <a:solidFill>
                  <a:srgbClr val="0033cc"/>
                </a:solidFill>
                <a:latin typeface="TheSansCorrespondence"/>
              </a:rPr>
              <a:t>Telefónica Perú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44680" y="6324480"/>
            <a:ext cx="0" cy="304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4038480" y="3886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2743200" y="2590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2743200" y="38862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734080" y="2889360"/>
            <a:ext cx="1630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TheSansCorrespondence"/>
              </a:rPr>
              <a:t>C</a:t>
            </a:r>
            <a:r>
              <a:rPr b="0" lang="es-ES" sz="1300" spc="-1" strike="noStrike">
                <a:solidFill>
                  <a:srgbClr val="ffffff"/>
                </a:solidFill>
                <a:latin typeface="TheSansCorrespondence"/>
              </a:rPr>
              <a:t>OMPROMISO </a:t>
            </a:r>
            <a:endParaRPr b="0" lang="en-US" sz="13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heSansCorrespondence"/>
              </a:rPr>
              <a:t>CON LA SOCIEDAD</a:t>
            </a:r>
            <a:endParaRPr b="0" lang="en-US" sz="13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4038480" y="3884760"/>
            <a:ext cx="1144800" cy="1144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F1D80-D15F-401A-8865-9C29165D43D7}" type="slidenum">
              <a:t>1</a:t>
            </a:fld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76000" y="22860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DIFERENCIA  ENTRE </a:t>
            </a:r>
            <a:br>
              <a:rPr sz="4000"/>
            </a:b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CRITERIO Y ESTÁNDAR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692360" y="190512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TheSansCorrespondence"/>
              </a:rPr>
              <a:t>CRITERIO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: 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DESCRIPTOR DEL ATRIBUTO DE UN OBJETO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TheSansCorrespondence"/>
              </a:rPr>
              <a:t>ESTÁNDAR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: 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CANTIDAD DEL ATRIBUTO NECESARIO PARA EMITIR UN JUICIO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1D4F1-6B8B-4480-8446-5F7EBB9ADE5E}" type="slidenum">
              <a:t>10</a:t>
            </a:fld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¿CÓMO CONSTRUIR LOS ESTÁNDARES DE UN ÁREA?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03280" y="1413000"/>
            <a:ext cx="7740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CONSULTAR LOS ESTÁNDARES DE OTROS PAÍSE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CONSULTAR LOS PROGRAMAS QUE EL COLEGIO VIENE DESARROLANDO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CONCILIAR AMBAS FUENTES REDACTANDO LOS PRIMEROS BORRADORES DE LOS ESTÁNDARE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CONSULTAR EL PROYECTO DE ESTÁNDARES ELABORADO CON LOS PROFESORES DEL ÁREA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D1130-5F46-44A8-99AB-C492324DDB5F}" type="slidenum">
              <a:t>11</a:t>
            </a:fld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76000" y="22860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ESTÁNDARES EDUCATIVOS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6858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ESTÁNDARES CURRICULARE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ESTÁNDARES DE EJECUCIÓN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ESTÁNDARES PEDAGÓGICO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6F17D-F3FB-4B6F-801C-92182BDBA5C6}" type="slidenum">
              <a:t>12</a:t>
            </a:fld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76000" y="54936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ESTÁNDARES CURRICULARES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47640" y="1989000"/>
            <a:ext cx="734544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DESCRIPCIÓN DE METAS MÁXIMAS DE EXIGENCIA ACADÉMICA QUE SE CONSTITUYEN EN PILARES DEL MEJORAMIENTO CUALITATIVO DE LA EDUCACIÓN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9E96F-1934-4B2D-AEB0-7A2E645A966D}" type="slidenum">
              <a:t>13</a:t>
            </a:fld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76000" y="22860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TheSansCorrespondence"/>
              </a:rPr>
              <a:t>ESTÁNDARES CURRICULARES EN MATEMÁTICAS</a:t>
            </a:r>
            <a:endParaRPr b="1" lang="en-US" sz="3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63640" y="1905120"/>
            <a:ext cx="685800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I.   NÚMERO Y OPERACIONE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II.  ÁLGEBRA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III. GEOMETRÍA  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IV. MEDIDA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V.  MATEMÁTICAS DISCRETA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BA700-5332-4013-BCCD-524124B7F088}" type="slidenum">
              <a:t>14</a:t>
            </a:fld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19280" y="228600"/>
            <a:ext cx="7524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3300"/>
                </a:solidFill>
                <a:latin typeface="TheSansCorrespondence"/>
              </a:rPr>
              <a:t>ESTÁNDAR CURRICULAR DE MATEMÁTICAS PARA 5º GRADO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92000" y="1484280"/>
            <a:ext cx="745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heSansCorrespondence"/>
              </a:rPr>
              <a:t>I.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 NÚMERO Y OPERACIONE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heSansCorrespondence"/>
              </a:rPr>
              <a:t>I -1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COMPRENDER LOS NÚMEROS, SUS 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PROPIEDADES, REPRESENTACIÓN, 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RELACIONES Y LOS SISTEMAS 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NUMÉRICO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heSansCorrespondence"/>
              </a:rPr>
              <a:t>I -1- (a)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  USAR MODELOS, REFERENCIAS Y FORMAS EQUIVALENTES PARA JUZGAR EL TAMAÑO DE LAS FRACCIONES USANDO DECIMALES Y PORCENTAJES 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0A9BA-EAEF-40B4-89DF-4A1E4397BD42}" type="slidenum">
              <a:t>15</a:t>
            </a:fld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76000" y="62064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ESTÁNDARES DE EJECUCIÓN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63640" y="1989000"/>
            <a:ext cx="68580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ESPECIFICACIÓN DE LAS HABILIDADES Y APTITUDES QUE LOS ESTUDIANTES DEBEN APRENDER EN RELACIÓN CON CADA ESTÁNDAR DE CONTENIDO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A05AC-D24F-496F-875B-61F56BC08E51}" type="slidenum">
              <a:t>16</a:t>
            </a:fld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76000" y="22860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3300"/>
                </a:solidFill>
                <a:latin typeface="TheSansCorrespondence"/>
              </a:rPr>
              <a:t>ESTÁNDARES DE EJECUCIÓN EN MATEMÁTICAS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92360" y="2060640"/>
            <a:ext cx="68580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RESOLUCIÓN DE PROBLEMA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RAZONAMIENTO Y DEMOSTRACIÓN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COMUNICACIÓN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CONEXIONE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REPRESENTACIÓN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E8220-5455-4B80-9130-BA5816138373}" type="slidenum">
              <a:t>17</a:t>
            </a:fld>
          </a:p>
        </p:txBody>
      </p:sp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47280" y="228600"/>
            <a:ext cx="7596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ESTÁNDARES PEDAGÓGICOS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18920" y="1268280"/>
            <a:ext cx="7140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Lineamientos para: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PROMOVER ACTIVIDADES QUE IMPULSEN UN CLIMA DE COOPERACIÓN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FACILITAR LAS CONEXIONES ENTRE LO QUE SE ENSEÑA Y LO QUE RODEA AL ESTUDIANTE 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FORTALECER EL APRENDIZAJE DE PROCEDIMIENTOS Y AUTOMATISMOS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CE76C-2914-4FD4-AFFA-FEAA0B4647A1}" type="slidenum">
              <a:t>18</a:t>
            </a:fld>
          </a:p>
        </p:txBody>
      </p:sp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47280" y="228600"/>
            <a:ext cx="7596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3300"/>
                </a:solidFill>
                <a:latin typeface="TheSansCorrespondence"/>
              </a:rPr>
              <a:t>ESTÁNDARES PEDAGÓGICOS EN MATEMÁTICAS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47280" y="1557360"/>
            <a:ext cx="7380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ENSEÑANDO CON TECNOLOGÍA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APRENDIZAJE ACTIVO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HACIENDO CONEXIONE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USANDO APROXIMACIONES MÚLTIPLE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EXPERIMENTANDO LAS MATEMÁTICA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CLASES INTERACTIVA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CF6F5-F391-417A-B94C-DB3FECCA8E9B}" type="slidenum">
              <a:t>19</a:t>
            </a:fld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76000" y="22860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SOCIEDAD DEL CONOCIMIENTO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6858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ff0000"/>
                </a:solidFill>
                <a:latin typeface="TheSansCorrespondence"/>
              </a:rPr>
              <a:t>METAS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e88"/>
                </a:solidFill>
                <a:latin typeface="TheSansCorrespondence"/>
              </a:rPr>
              <a:t>REALIZACIÓN PERSONAL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e88"/>
                </a:solidFill>
                <a:latin typeface="TheSansCorrespondence"/>
              </a:rPr>
              <a:t>CIUDADANÍA ACTIVA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e88"/>
                </a:solidFill>
                <a:latin typeface="TheSansCorrespondence"/>
              </a:rPr>
              <a:t>EMPLEABILIDAD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ff0000"/>
                </a:solidFill>
                <a:latin typeface="TheSansCorrespondence"/>
              </a:rPr>
              <a:t>ÉNFASIS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e88"/>
                </a:solidFill>
                <a:latin typeface="TheSansCorrespondence"/>
              </a:rPr>
              <a:t>De ENSEÑAR a </a:t>
            </a:r>
            <a:r>
              <a:rPr b="1" lang="es-ES_tradnl" sz="2500" spc="-1" strike="noStrike">
                <a:solidFill>
                  <a:srgbClr val="00cc99"/>
                </a:solidFill>
                <a:latin typeface="TheSansCorrespondence"/>
              </a:rPr>
              <a:t>APRENDER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e88"/>
                </a:solidFill>
                <a:latin typeface="TheSansCorrespondence"/>
              </a:rPr>
              <a:t>De DESARROLLO DEL CONOCIMIENTO al de APTITUDES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D96A5-3CD2-4660-87E2-FFACD9ED043F}" type="slidenum">
              <a:t>2</a:t>
            </a:fld>
          </a:p>
        </p:txBody>
      </p:sp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APRENDIZAJE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47280" y="1294920"/>
            <a:ext cx="7596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UN ESTUDIANTE APRENDE CUANDO PIENSA ACTIVAMENTE CONSTRUYENDO Y DESARROLLANDO MODELOS MENTALES EXPLICATIVOS QUE LE PERMITEN ADAPTARSE ANTE SITUACIONES INESPERADAS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 algn="ctr">
              <a:lnSpc>
                <a:spcPct val="13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3300" spc="-1" strike="noStrike">
                <a:solidFill>
                  <a:srgbClr val="000096"/>
                </a:solidFill>
                <a:latin typeface="TheSansCorrespondence"/>
              </a:rPr>
              <a:t>EVALUACIÓN DEL APRENDIZAJE</a:t>
            </a:r>
            <a:endParaRPr b="0" lang="en-US" sz="33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INVESTIGACIÓN SISTEMÁTICA QUE ABARCA TODOS LOS MÉTODOS USADOS PARA VALORAR O JUZGAR LA EFICIENCIA DE UNA PERSONA O DE UN GRUPO A TRAVÉS DE PRUEBAS, DOCUMENTACIÓN, SEGUIMIENTO O MONITOREO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991AB-6C17-4334-A2B3-9C3035352450}" type="slidenum">
              <a:t>20</a:t>
            </a:fld>
          </a:p>
        </p:txBody>
      </p:sp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ÉNFASIS EN LA EVALUACIÓN DE LOS APRENDIZAJES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63640" y="1412640"/>
            <a:ext cx="68580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heSansCorrespondence"/>
              </a:rPr>
              <a:t>DE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 DETERMINAR LA AUSENCIA DE UN FRAGMENTO DE INFORMACIÓN  </a:t>
            </a:r>
            <a:r>
              <a:rPr b="1" lang="es-ES_tradnl" sz="2400" spc="-1" strike="noStrike">
                <a:solidFill>
                  <a:srgbClr val="ff3300"/>
                </a:solidFill>
                <a:latin typeface="TheSansCorrespondence"/>
              </a:rPr>
              <a:t>A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CÓMO SE ORGANIZA, ESTRUCTURA Y USA ESA INFORMACIÓN PARA RESOLVER PROBLEMAS COMPLEJO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heSansCorrespondence"/>
              </a:rPr>
              <a:t>DE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 LOS TRADICIONALES EXÁMENES </a:t>
            </a:r>
            <a:r>
              <a:rPr b="1" lang="es-ES_tradnl" sz="2400" spc="-1" strike="noStrike">
                <a:solidFill>
                  <a:srgbClr val="ff3300"/>
                </a:solidFill>
                <a:latin typeface="TheSansCorrespondence"/>
              </a:rPr>
              <a:t>A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LA EVALUACIÓN BASADA EN ESTÁNDARES DE DESEMPEÑO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16AF4-DEEF-4A1A-BBF9-3C374CD25DB4}" type="slidenum">
              <a:t>21</a:t>
            </a:fld>
          </a:p>
        </p:txBody>
      </p:sp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EVALUACIÓN BASADA EN ESTÁNDARES (EBE)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47640" y="1484280"/>
            <a:ext cx="7345440" cy="44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LA 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EBE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 ESTÁ CONSTITUIDA POR UN GRAN GRUPO DE MÉTODOS DE EVALUACIÓN LIGADOS AL PENSAMIENTO CRITERIA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96"/>
                </a:solidFill>
                <a:latin typeface="TheSansCorrespondence"/>
              </a:rPr>
              <a:t>LA </a:t>
            </a:r>
            <a:r>
              <a:rPr b="1" lang="es-ES" sz="2200" spc="-1" strike="noStrike">
                <a:solidFill>
                  <a:srgbClr val="ff3300"/>
                </a:solidFill>
                <a:latin typeface="TheSansCorrespondence"/>
              </a:rPr>
              <a:t>EBE</a:t>
            </a:r>
            <a:r>
              <a:rPr b="1" lang="es-ES" sz="2200" spc="-1" strike="noStrike">
                <a:solidFill>
                  <a:srgbClr val="000096"/>
                </a:solidFill>
                <a:latin typeface="TheSansCorrespondence"/>
              </a:rPr>
              <a:t> PERMITE CENTRAR EL ESFUERZO DE LOS EDUCADORES Y LOS ESTUDIANTES EN METAS DE DESEMPEÑO ESPECÍFICAS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EL FIN DE LA 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EBE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ES AYUDAR A LOS ESTUDIANTES A CUMPLIR CON LOS ESTÁNDARES MIDIENDO SU PROGRESO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EF385-670E-4D5D-8A1B-AA024B1093EC}" type="slidenum">
              <a:t>22</a:t>
            </a:fld>
          </a:p>
        </p:txBody>
      </p:sp>
    </p:spTree>
  </p:cSld>
  <p:transition spd="slow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RETOS PARA LOS SISTEMAS DE EBE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6858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CONSTRUIR UN CONSENSO NACIONAL, REGIONAL, LOCAL O INSTITUCIONA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ESTABLECER ESTÁNDARES DE ALTO NIVE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ALINEAR LOS ESTÁNDARES CON LE ENSEÑANZA Y LA EVALUACIÓN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ASEGURAR MEDICIONES PRECISAS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INCLUIR A TODOS LOS ESTUDIANTES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CONSTRUIR CAPACIDAD LOCA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ESTIMAR COSTOS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ENCARAR RETOS LEGALES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EED33-56DC-46E8-8616-00D081BEE3CB}" type="slidenum">
              <a:t>23</a:t>
            </a:fld>
          </a:p>
        </p:txBody>
      </p:sp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6"/>
                </a:solidFill>
                <a:latin typeface="TheSansCorrespondence"/>
              </a:rPr>
              <a:t>¿CÓMO SE DISEÑA UNA PRUEBA DE EVALUACIÓN BASADA EN ESTÁNDARES?</a:t>
            </a:r>
            <a:endParaRPr b="1" lang="en-US" sz="3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63640" y="2420640"/>
            <a:ext cx="68580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IDENTIFICAR LOS CONTENIDOS DE CADA ESTÁNDAR CURRICULAR: CONCEPTOS Y PROCEDIMIENTO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35880" indent="-3358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AJUSTAR EL NÚMERO DE PREGUNTAS PARA REPRESENTAR A LOS ESTÁNDARES Y SUS CONTENIDOS, Y AL TIEMPO DISPONIBLE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45D2A-2E68-43AE-9C5E-4F8056B86DDC}" type="slidenum">
              <a:t>24</a:t>
            </a:fld>
          </a:p>
        </p:txBody>
      </p:sp>
    </p:spTree>
  </p:cSld>
  <p:transition spd="slow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CONSTRUCCIÓN O ELECCIÓN DE LAS PREGUNTAS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63640" y="1557360"/>
            <a:ext cx="6858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CONSTRUIR PREGUNTAS EN BASE A LA EXPERIENCIA PREVIA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ELEGIR PREGUNTAS DE UN BANCO DE PREGUNTAS ESTANDARIZADA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heSansCorrespondence"/>
              </a:rPr>
              <a:t>CRITERIO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GRADO DE DIFICULTAD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PODER DISCRIMINADOR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TIEMPO-ALUMNO DE RESOLUCIÓN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490AF-B12B-42B2-9131-B78BEB6611A2}" type="slidenum">
              <a:t>25</a:t>
            </a:fld>
          </a:p>
        </p:txBody>
      </p:sp>
    </p:spTree>
  </p:cSld>
  <p:transition spd="slow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CALIFICACIÓN DE LA PRUEBA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76000" y="1052640"/>
            <a:ext cx="7667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A CARGO DE UNA COMISIÓN EXTERNA O INTERNA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USO DE TARJETAS PARA LECTURA ÓPTICA O CALIFICACIÓN MANUAL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ADJUDICAR UN CÓDIGO PARA CADA ALUMNO VÁLIDO PARA TODA SU ESCOLARIDAD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GENERAR UNA BASE DE DATOS USANDO CÓDIGOS, APELLIDOS Y NOMBRES, PREGUNTAS Y RESPUESTAS (BIEN, MAL, NO CONTESTADA)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A9C5C-79EB-4EE4-B46A-1B34D8C74D54}" type="slidenum">
              <a:t>26</a:t>
            </a:fld>
          </a:p>
        </p:txBody>
      </p:sp>
    </p:spTree>
  </p:cSld>
  <p:transition spd="slow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92360" y="228600"/>
            <a:ext cx="7200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ANÁLISIS DE LOS DATOS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76000" y="1294920"/>
            <a:ext cx="76676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PROCESAMIENTO ESTADÍSTICO DE LOS DATOS PARA: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INFORMAR A LOS ESTUDIANTES Y PADRES SOBRE EL RENDIMIENTO INDIVIDUAL PARA LA ORIENTACIÓN POSTERIOR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INFORMAR A LOS PROFESORES Y DIRECTIVOS DE LA DISTRIBUCIÓN DE LOGROS EN LA TOTALIDAD DEL GRUPO PARA LA APLICACIÓN DE ESTRATEGIAS DE APRENDIZAJE COHERENTES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GRADO DE DIFICULTAD Y PODER DISCRIMINADOR DE CADA PREGUNTA PLANTEADA PARA LA CONSTRUCCIÓN DE UN BANCO DE PREGUNTAS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B7700-BC8E-4469-A1AA-0C3315492FA8}" type="slidenum">
              <a:t>27</a:t>
            </a:fld>
          </a:p>
        </p:txBody>
      </p:sp>
    </p:spTree>
  </p:cSld>
  <p:transition spd="slow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INDICADORES ESTADÍSTICOS SOBRE TODOS LOS ALUMNOS DE UN SALÓN</a:t>
            </a:r>
            <a:br>
              <a:rPr sz="3600"/>
            </a:b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908000" y="2349000"/>
            <a:ext cx="68580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CALIFICATIVO PROMEDIO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CALIFICATIVO MÍNIMO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CALIFICATIVO MÁXIMO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DESVIACIÓN ESTÁNDAR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HISTOGRAMA DE FRECUENCIA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FDC32-2C30-415D-8794-CC59EEAAEE61}" type="slidenum">
              <a:t>28</a:t>
            </a:fld>
          </a:p>
        </p:txBody>
      </p:sp>
    </p:spTree>
  </p:cSld>
  <p:transition spd="slow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6"/>
                </a:solidFill>
                <a:latin typeface="TheSansCorrespondence"/>
              </a:rPr>
              <a:t>INDICADOR ESTADÍSTICO SOBRE CADA PREGUNTA DE LA PRUEBA</a:t>
            </a:r>
            <a:endParaRPr b="1" lang="en-US" sz="3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76000" y="1413000"/>
            <a:ext cx="7667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CADA PREGUNTA ES CONTESTADA POR CADA ALUMNO BIEN (B),  MAL  (M) O NO ES CONTESTADA  (NC)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CADA PREGUNTA RECIBE UNA ETIQUETA: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1800" spc="-1" strike="noStrike">
                <a:solidFill>
                  <a:srgbClr val="ff0000"/>
                </a:solidFill>
                <a:latin typeface="TheSansCorrespondence"/>
              </a:rPr>
              <a:t>DEFICIENTE (D)</a:t>
            </a: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67%   a   100% CONTESTA MAL O NO CONTESTA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1800" spc="-1" strike="noStrike">
                <a:solidFill>
                  <a:srgbClr val="ff0000"/>
                </a:solidFill>
                <a:latin typeface="TheSansCorrespondence"/>
              </a:rPr>
              <a:t>MAL (M)</a:t>
            </a: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36%   a   66% CONTESTA MAL O NO CONTESTA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1800" spc="-1" strike="noStrike">
                <a:solidFill>
                  <a:srgbClr val="ff0000"/>
                </a:solidFill>
                <a:latin typeface="TheSansCorrespondence"/>
              </a:rPr>
              <a:t>BIEN (B) 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lvl="1" marL="74304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0%   a   35% CONTESTA MAL O NO CONTESTA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SE IDENTIFICA AQUELLOS CONTENIDOS O PROCEDIMIENTOS QUE ESTÁN  </a:t>
            </a:r>
            <a:r>
              <a:rPr b="1" lang="es-ES_tradnl" sz="1800" spc="-1" strike="noStrike">
                <a:solidFill>
                  <a:srgbClr val="ff3300"/>
                </a:solidFill>
                <a:latin typeface="TheSansCorrespondence"/>
              </a:rPr>
              <a:t>MAL </a:t>
            </a: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O  </a:t>
            </a:r>
            <a:r>
              <a:rPr b="1" lang="es-ES_tradnl" sz="1800" spc="-1" strike="noStrike">
                <a:solidFill>
                  <a:srgbClr val="ff3300"/>
                </a:solidFill>
                <a:latin typeface="TheSansCorrespondence"/>
              </a:rPr>
              <a:t>DEFICIENTES</a:t>
            </a: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 Y DEBEN SER REFORZADOS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82D39-078C-47B1-9B06-2C70AA0A534A}" type="slidenum">
              <a:t>29</a:t>
            </a:fld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03280" y="620640"/>
            <a:ext cx="7740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SISTEMAS EDUCATIVOS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47280" y="1294920"/>
            <a:ext cx="74170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LOS </a:t>
            </a:r>
            <a:r>
              <a:rPr b="1" lang="es-ES_tradnl" sz="2800" spc="-1" strike="noStrike">
                <a:solidFill>
                  <a:srgbClr val="ff0000"/>
                </a:solidFill>
                <a:latin typeface="TheSansCorrespondence"/>
              </a:rPr>
              <a:t>ESTÁNDARES</a:t>
            </a: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 Y LA </a:t>
            </a:r>
            <a:r>
              <a:rPr b="1" lang="es-ES_tradnl" sz="2800" spc="-1" strike="noStrike">
                <a:solidFill>
                  <a:srgbClr val="ff0000"/>
                </a:solidFill>
                <a:latin typeface="TheSansCorrespondence"/>
              </a:rPr>
              <a:t>EVALUACIÓN </a:t>
            </a: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SON INSTRUMENTOS CLAVES PARA DEFINIR LAS POLÍTICAS APROPIADAS PARA EL MEJORAMIENTO DE LA CALIDAD EDUCATIVA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CA427-31AA-4ADE-982F-5CF97B79287F}" type="slidenum">
              <a:t>3</a:t>
            </a:fld>
          </a:p>
        </p:txBody>
      </p:sp>
    </p:spTree>
  </p:cSld>
  <p:transition spd="slow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76000" y="228240"/>
            <a:ext cx="7667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6"/>
                </a:solidFill>
                <a:latin typeface="TheSansCorrespondence"/>
              </a:rPr>
              <a:t>INDICADOR ESTADÍSTICO SOBRE TODA LA PRUEBA EN UN SALÓN:</a:t>
            </a:r>
            <a:br>
              <a:rPr sz="3200"/>
            </a:br>
            <a:r>
              <a:rPr b="1" lang="es-ES_tradnl" sz="3200" spc="-1" strike="noStrike">
                <a:solidFill>
                  <a:srgbClr val="ff3300"/>
                </a:solidFill>
                <a:latin typeface="TheSansCorrespondence"/>
              </a:rPr>
              <a:t>ÍNDICE DE ACIERTOS</a:t>
            </a:r>
            <a:endParaRPr b="1" lang="en-US" sz="3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7280" y="1844640"/>
            <a:ext cx="7596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EXISTE UN UNIVERSO DE RESPUESTAS SEGÚN EL NÚMERO DE PREGUNTAS DE LA PRUEBA Y EL NÚMERO DE ALUMNOS QUE RINDE LA MISMA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-33264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96"/>
                </a:solidFill>
                <a:latin typeface="TheSansCorrespondence"/>
              </a:rPr>
              <a:t>20 respuestas/alumno x 30 alumnos/salón = 600 resptas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ACIERTOS (B)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120   20%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ERRADAS (M)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180   30%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NO CONTESTADAS (NC)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300   50%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-33264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SE DEBERÍA TENDER A UN ÍNDICE DE ACIERTOS DE 80%  O SUPERIOR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77491-FE9E-45A0-B897-5F6CC68F3815}" type="slidenum">
              <a:t>30</a:t>
            </a:fld>
          </a:p>
        </p:txBody>
      </p:sp>
    </p:spTree>
  </p:cSld>
  <p:transition spd="slow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19280" y="228240"/>
            <a:ext cx="752472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NIVEL DE DIFICULTAD DE CADA PREGUNTA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47280" y="3499920"/>
            <a:ext cx="759636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PROPORCIÓN DE ESTUDIANTES QUE RESPONDEN CORRECTAMENTE LA PREGUNTA 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CRITERIO: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NIVEL MEDIO DE DIFICULTAD  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0.5 &lt; p &lt; 0.6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411280" y="1916280"/>
          <a:ext cx="5616720" cy="122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1916280"/>
                    <a:ext cx="5616720" cy="122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57AB8-5D82-4589-9B94-83217C541F47}" type="slidenum">
              <a:t>31</a:t>
            </a:fld>
          </a:p>
        </p:txBody>
      </p:sp>
    </p:spTree>
  </p:cSld>
  <p:transition spd="slow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03280" y="299880"/>
            <a:ext cx="7740720" cy="14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ÍNDICE DE DISCRIMINACIÓN DE CADA PREGUNTA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76360" y="2205000"/>
            <a:ext cx="739152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UNA BUENA PREGUNTA DEBE DISCRIMINAR ENTRE LOS QUE OBTIENEN ALTAS Y BAJAS CALIFICACIONE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GRUPO ALTO (GA) = 27% X TOTAL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GRUPO BAJO (GB) = 27% X TOTAL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700360" y="5157720"/>
          <a:ext cx="5173560" cy="8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5157720"/>
                    <a:ext cx="517356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BD253-45A7-4416-890A-A8D72C3697B7}" type="slidenum">
              <a:t>32</a:t>
            </a:fld>
          </a:p>
        </p:txBody>
      </p:sp>
    </p:spTree>
  </p:cSld>
  <p:transition spd="slow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92360" y="228600"/>
            <a:ext cx="62323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CRITERIOS PARA EL ÍNDICE DE DISCRIMINACIÓN  (D)</a:t>
            </a:r>
            <a:br>
              <a:rPr sz="2800"/>
            </a:br>
            <a:br>
              <a:rPr sz="2000"/>
            </a:br>
            <a:r>
              <a:rPr b="0" lang="es-ES_tradnl" sz="3200" spc="-1" strike="noStrike">
                <a:solidFill>
                  <a:srgbClr val="000096"/>
                </a:solidFill>
                <a:latin typeface="TheSansCorrespondence"/>
              </a:rPr>
              <a:t>-1 &lt; D &lt; 1</a:t>
            </a:r>
            <a:br>
              <a:rPr sz="3200"/>
            </a:br>
            <a:endParaRPr b="1" lang="en-US" sz="3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03280" y="2637000"/>
            <a:ext cx="774072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0.39 - 1.00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EXCELENTE 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   CONSERVAR PREGUNTA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0.30 - 0.39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BUENA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   POSIBILIDAD MEJORA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0.20 - 0.29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REGULAR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   NECESIDAD REVISAR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0.00 - 0.20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POBRE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   DESCARTAR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-1 -  0.00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PÉSIMA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   DESCARTAR 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   DEFINITIVAMENTE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F29C5-E1B6-47B9-943A-D947F6910FF1}" type="slidenum">
              <a:t>33</a:t>
            </a:fld>
          </a:p>
        </p:txBody>
      </p:sp>
    </p:spTree>
  </p:cSld>
  <p:transition spd="slow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REPORTES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47280" y="1052640"/>
            <a:ext cx="7596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499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heSansCorrespondence"/>
              </a:rPr>
              <a:t>AL ALUMNO</a:t>
            </a: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: SU CALIFICATIVO, TEMAS DÉBILES Y RECOMENDACIONES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-332640">
              <a:lnSpc>
                <a:spcPct val="130000"/>
              </a:lnSpc>
              <a:spcBef>
                <a:spcPts val="499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heSansCorrespondence"/>
              </a:rPr>
              <a:t>AL PROFESOR</a:t>
            </a: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: LISTA DE SUS ALUMNOS, CALIFICATIVOS, HISTOGRAMA, MEDIA, MÍNIMA, MÁXIMA, DESVIACIÓN ESTÁNDAR, IDENTIFICACIÓN DE TEMAS A REVISAR, ÍNDICE DE ACIERTOS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-332640">
              <a:lnSpc>
                <a:spcPct val="130000"/>
              </a:lnSpc>
              <a:spcBef>
                <a:spcPts val="499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heSansCorrespondence"/>
              </a:rPr>
              <a:t>A LOS DIRECTIVOS</a:t>
            </a: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: LO MISMO QUE AL PROFESOR PERO DE TODOS LOS CURSOS Y GRADOS, ADEMÁS DE LOS GRADOS DE DIFICULTAD Y PODER DISCRIMINADOR DE CADA PREGUNTA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F3598-4BA2-4464-91BD-7C14D27BD866}" type="slidenum">
              <a:t>34</a:t>
            </a:fld>
          </a:p>
        </p:txBody>
      </p:sp>
    </p:spTree>
  </p:cSld>
  <p:transition spd="slow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4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010d82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pic>
          <p:nvPicPr>
            <p:cNvPr id="141" name="" descr=""/>
            <p:cNvPicPr/>
            <p:nvPr/>
          </p:nvPicPr>
          <p:blipFill>
            <a:blip r:embed="rId1"/>
            <a:stretch/>
          </p:blipFill>
          <p:spPr>
            <a:xfrm>
              <a:off x="561960" y="590400"/>
              <a:ext cx="8020080" cy="567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54A17-49FE-44E5-AC6F-08D2544A99F2}" type="slidenum">
              <a:t>35</a:t>
            </a:fld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92360" y="620640"/>
            <a:ext cx="6232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ESTÁNDARES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92360" y="190512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Enunciados que proveen descripciones claras y específicas de las habilidades y conocimientos que los estudiantes deben lograr en su proceso de aprendizaje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2539B-CF17-46EB-8EC3-9358FA760C92}" type="slidenum">
              <a:t>4</a:t>
            </a:fld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76000" y="54936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¿QUIÉNES FIJAN LOS ESTÁNDARES?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19280" y="2421000"/>
            <a:ext cx="68580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LA GENTE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LOS PROFESORE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LOS EXPERTO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LOS EVALUADORE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987F4-C31F-4963-9195-5ABE6474BE1D}" type="slidenum">
              <a:t>5</a:t>
            </a:fld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76000" y="22860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CARACTERÍSTICA GENERAL </a:t>
            </a:r>
            <a:br>
              <a:rPr sz="4000"/>
            </a:b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DE LOS ESTÁNDARES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76360" y="1844640"/>
            <a:ext cx="7416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LOS ESTÁNDARES DEBEN SER LOS MISMOS PARA TODOS LOS NIÑOS Y JÓVENES SIN IMPORTAR SUS DIFERENCIA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 algn="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ALGUNOS ESTUDIANTE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 algn="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NECESITAN DE MÁS TIEMPO, 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 algn="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OTROS DE MÁS INSTRUCCIÓN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FA4BE-CE3C-4895-87FD-51D281C20F9F}" type="slidenum">
              <a:t>6</a:t>
            </a:fld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19280" y="228600"/>
            <a:ext cx="7524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CARACTERÍSTICAS DE LOS ESTÁNDARES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76000" y="1557360"/>
            <a:ext cx="7667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CENTRARSE EN LO ACADÉMICO (DISCIPLINAS) 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FOMENTAR QUE TODOS LOS ALUMNOS TENGAN UN CURRÍCULO BÁSICO COMÚN 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SER REALISTAS CON EL TIEMPO DISPONIBLE PARA LA ENSEÑANZA</a:t>
            </a:r>
            <a:r>
              <a:rPr b="0" lang="es-ES" sz="25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TENER COMO REFERENCIA LOS ESTÁNDARES INTERNACIONALES DE CALIDAD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87FFE-72B7-467F-8287-BADA79532313}" type="slidenum">
              <a:t>7</a:t>
            </a:fld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92360" y="228600"/>
            <a:ext cx="6232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CARACTERÍSTICAS ……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7280" y="1294920"/>
            <a:ext cx="7596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COMBINAR CAPACIDADES SIN PRIVILEGIARLAS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SER COMPRENDIDOS POR TODOS LOS INTERESADOS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SER EL RESULTADO DE UN PROCESO INTERACTIVO DE COMENTARIOS, RETROALIMENTACIÓN Y REVISIÓN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NO DEBEN ESTAR LIMITADOS AL CURRÍCULO OFICIAL  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B9DED-7AAF-4186-8FA1-9E3594FB7F03}" type="slidenum">
              <a:t>8</a:t>
            </a:fld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06560" y="620280"/>
            <a:ext cx="81374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TheSansCorrespondence"/>
              </a:rPr>
              <a:t>¿</a:t>
            </a: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QUÉ </a:t>
            </a:r>
            <a:r>
              <a:rPr b="1" lang="es-ES_tradnl" sz="3600" spc="-1" strike="noStrike">
                <a:solidFill>
                  <a:srgbClr val="ff0000"/>
                </a:solidFill>
                <a:latin typeface="TheSansCorrespondence"/>
              </a:rPr>
              <a:t>NO</a:t>
            </a: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 SON LOS ESTÁNDARES?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92360" y="170028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6"/>
                </a:solidFill>
                <a:latin typeface="TheSansCorrespondence"/>
              </a:rPr>
              <a:t>No son un programa ni syllabu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6"/>
                </a:solidFill>
                <a:latin typeface="TheSansCorrespondence"/>
              </a:rPr>
              <a:t>No son una lista de actividade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6"/>
                </a:solidFill>
                <a:latin typeface="TheSansCorrespondence"/>
              </a:rPr>
              <a:t>No especifican la didáctica a emplear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6"/>
                </a:solidFill>
                <a:latin typeface="TheSansCorrespondence"/>
              </a:rPr>
              <a:t>No prescriben un orden o secuencia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6"/>
                </a:solidFill>
                <a:latin typeface="TheSansCorrespondence"/>
              </a:rPr>
              <a:t>No recomiendan bibliografía alguna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6"/>
                </a:solidFill>
                <a:latin typeface="TheSansCorrespondence"/>
              </a:rPr>
              <a:t>No especifican materiales a usar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6"/>
                </a:solidFill>
                <a:latin typeface="TheSansCorrespondence"/>
              </a:rPr>
              <a:t>No indican cómo evaluar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6"/>
                </a:solidFill>
                <a:latin typeface="TheSansCorrespondence"/>
              </a:rPr>
              <a:t>No sustituyen a otros documento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C03B4-6930-434F-B943-E1A96ABACF26}" type="slidenum">
              <a:t>9</a:t>
            </a:fld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5T19:19:57Z</dcterms:created>
  <dc:creator>Alexis Sifuentes Alarcon</dc:creator>
  <dc:description/>
  <dc:language>en-US</dc:language>
  <cp:lastModifiedBy>Hildebrando Luque</cp:lastModifiedBy>
  <cp:lastPrinted>2004-05-05T15:40:35Z</cp:lastPrinted>
  <dcterms:modified xsi:type="dcterms:W3CDTF">2006-08-05T18:37:17Z</dcterms:modified>
  <cp:revision>358</cp:revision>
  <dc:subject/>
  <dc:title>Sin título de diapositiva</dc:title>
</cp:coreProperties>
</file>