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899640" y="745920"/>
            <a:ext cx="487548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heSansCorrespondence"/>
              </a:rPr>
              <a:t>Click to move the slide</a:t>
            </a: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09360" y="4700520"/>
            <a:ext cx="485460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F39E89A0-7988-445E-A261-DD388869A4B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2B16DFC-E1E6-44B0-A7B7-79E50EE7AEA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010002B2-F192-491A-A056-CED481428BA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D0E27-F2C2-448C-A78C-2CC996B2D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1E58F-875D-4ECC-8768-62F3D9047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F22BD-CB91-49E2-BAE0-8F3D857CAE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0712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96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75248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0712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96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A3469-8FB8-4814-97DD-0B09ACEC5A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92283-234A-41EB-AE67-3DFFCED9AD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05A07-74F9-4ACB-9C5A-DB3C57D27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266E3-8DCB-4519-9AB5-6DCEE6D22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1F4EE-8919-4395-83FB-C9ED484A87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51818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B34AD-48FD-493B-92C7-3AE97FECE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9AE3-5562-45F6-AE0E-2DFF8E6EC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AB6ED-BA41-41FC-99C4-FA2125990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F15F9-F129-4E50-8567-14759AA13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solidFill>
            <a:srgbClr val="000e8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Click to edit the outline text format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1" marL="743040" indent="-28584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econd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2" marL="11430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Third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3" marL="16002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Four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4" marL="20574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Fif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5" marL="2057400" indent="-228600">
              <a:spcBef>
                <a:spcPts val="55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ix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6" marL="2057400" indent="-228600">
              <a:spcBef>
                <a:spcPts val="55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even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heSansCorrespondence"/>
              </a:rPr>
              <a:t>Click to edit the title text format</a:t>
            </a: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0592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96"/>
                </a:solidFill>
                <a:latin typeface="TheSansCorresponden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A431-55AB-4E50-9AAE-D1813CA5A675}" type="slidenum">
              <a:rPr b="0" lang="es-ES_tradnl" sz="1200" spc="-1" strike="noStrike">
                <a:solidFill>
                  <a:srgbClr val="000096"/>
                </a:solidFill>
                <a:latin typeface="TheSansCorresponden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52480" y="6477120"/>
            <a:ext cx="0" cy="3045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04920" y="457200"/>
          <a:ext cx="76176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57200"/>
                    <a:ext cx="761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04920" y="13716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22680" y="2209680"/>
            <a:ext cx="1332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heSansCorrespondence"/>
              </a:rPr>
              <a:t>COMPROMISO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heSansCorrespondence"/>
              </a:rPr>
              <a:t>CON LA SOCIEDA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rcRect l="24970" t="59303" r="21982" b="9492"/>
          <a:stretch/>
        </p:blipFill>
        <p:spPr>
          <a:xfrm>
            <a:off x="146160" y="5916600"/>
            <a:ext cx="1143000" cy="6732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755720" y="6377040"/>
            <a:ext cx="1928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33cc"/>
                </a:solidFill>
                <a:latin typeface="TheSansCorresponden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cc"/>
                </a:solidFill>
                <a:latin typeface="TheSansCorrespondence"/>
              </a:rPr>
              <a:t>Fundaci</a:t>
            </a:r>
            <a:r>
              <a:rPr b="0" lang="es-ES" sz="1200" spc="-1" strike="noStrike">
                <a:solidFill>
                  <a:srgbClr val="0033cc"/>
                </a:solidFill>
                <a:latin typeface="TheSansCorrespondence"/>
                <a:ea typeface="ＭＳ Ｐゴシック"/>
              </a:rPr>
              <a:t>ón </a:t>
            </a:r>
            <a:r>
              <a:rPr b="0" lang="es-ES" sz="1200" spc="-1" strike="noStrike">
                <a:solidFill>
                  <a:srgbClr val="0033cc"/>
                </a:solidFill>
                <a:latin typeface="TheSansCorrespondence"/>
              </a:rPr>
              <a:t>Telefónica </a:t>
            </a:r>
            <a:r>
              <a:rPr b="0" lang="es-PE" sz="1200" spc="-1" strike="noStrike">
                <a:solidFill>
                  <a:srgbClr val="0033cc"/>
                </a:solidFill>
                <a:latin typeface="TheSansCorrespondence"/>
              </a:rPr>
              <a:t>Per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334120" y="2590920"/>
            <a:ext cx="2441520" cy="2441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El Peinador de la Reina"/>
          <p:cNvPicPr/>
          <p:nvPr/>
        </p:nvPicPr>
        <p:blipFill>
          <a:blip r:embed="rId2"/>
          <a:srcRect l="9271" t="0" r="9271" b="7052"/>
          <a:stretch/>
        </p:blipFill>
        <p:spPr>
          <a:xfrm>
            <a:off x="1447920" y="3886200"/>
            <a:ext cx="1141200" cy="1144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038480" y="2583000"/>
            <a:ext cx="115092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1447920" y="2590920"/>
          <a:ext cx="1144440" cy="1144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2590920"/>
                    <a:ext cx="114444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50920" y="685800"/>
            <a:ext cx="8893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64"/>
                </a:solidFill>
                <a:latin typeface="TheSansCorrespondence"/>
              </a:rPr>
              <a:t>UNA ALTERNATIVA DE FUTURO: </a:t>
            </a: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64"/>
                </a:solidFill>
                <a:latin typeface="TheSansCorrespondence"/>
              </a:rPr>
              <a:t>LA EVALUACIÓN BASADA EN ESTÁNDARES</a:t>
            </a: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5149800"/>
            <a:ext cx="384804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heSansCorrespondence"/>
              </a:rPr>
              <a:t>03 de agosto del 2006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heSansCorrespondence"/>
              </a:rPr>
              <a:t>Hildebrando Luque Freire, M.Sc.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18040" y="6273720"/>
            <a:ext cx="171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</a:rPr>
              <a:t>Fundaci</a:t>
            </a: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  <a:ea typeface="ＭＳ Ｐゴシック"/>
              </a:rPr>
              <a:t>ón</a:t>
            </a: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</a:rPr>
              <a:t>Telefónica Perú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4680" y="632448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038480" y="3886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2743200" y="2590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2743200" y="3886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34080" y="2889360"/>
            <a:ext cx="163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heSansCorrespondence"/>
              </a:rPr>
              <a:t>C</a:t>
            </a:r>
            <a:r>
              <a:rPr b="0" lang="es-ES" sz="1300" spc="-1" strike="noStrike">
                <a:solidFill>
                  <a:srgbClr val="ffffff"/>
                </a:solidFill>
                <a:latin typeface="TheSansCorrespondence"/>
              </a:rPr>
              <a:t>OMPROMISO </a:t>
            </a:r>
            <a:endParaRPr b="0" lang="en-US" sz="13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heSansCorrespondence"/>
              </a:rPr>
              <a:t>CON LA SOCIEDAD</a:t>
            </a:r>
            <a:endParaRPr b="0" lang="en-US" sz="13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4038480" y="3884760"/>
            <a:ext cx="1144800" cy="114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E4D01-C967-4D7D-9DBF-B5ACBD098603}" type="slidenum">
              <a:t>1</a:t>
            </a:fld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DIFERENCIA  ENTRE </a:t>
            </a:r>
            <a:br>
              <a:rPr sz="4000"/>
            </a:b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RITERIO Y ESTÁNDAR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92360" y="1905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heSansCorrespondence"/>
              </a:rPr>
              <a:t>CRITERIO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: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DESCRIPTOR DEL ATRIBUTO DE UN OBJET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heSansCorrespondence"/>
              </a:rPr>
              <a:t>ESTÁNDAR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: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ANTIDAD DEL ATRIBUTO NECESARIO PARA EMITIR UN JUICI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4BFEF-7A73-4D13-8B86-8158803AB762}" type="slidenum">
              <a:t>10</a:t>
            </a:fld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¿CÓMO CONSTRUIR LOS ESTÁNDARES DE UN ÁREA?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03280" y="1413000"/>
            <a:ext cx="774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LOS ESTÁNDARES DE OTROS PAÍS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LOS PROGRAMAS QUE EL COLEGIO VIENE DESARROLAND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CILIAR AMBAS FUENTES REDACTANDO LOS PRIMEROS BORRADORES DE LOS ESTÁNDAR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EL PROYECTO DE ESTÁNDARES ELABORADO CON LOS PROFESORES DEL ÁRE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A4FD-281B-4597-89B7-56C885079D56}" type="slidenum">
              <a:t>11</a:t>
            </a:fld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 EDUCATIV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CURRICULA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DE EJECU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PEDAGÓGICO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ADDB5-AA50-4147-904F-31C514743DFC}" type="slidenum">
              <a:t>12</a:t>
            </a:fld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STÁNDARES CURRICULARE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47640" y="1989000"/>
            <a:ext cx="73454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DESCRIPCIÓN DE METAS MÁXIMAS DE EXIGENCIA ACADÉMICA QUE SE CONSTITUYEN EN PILARES DEL MEJORAMIENTO CUALITATIVO DE LA EDUC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C74C0-33AF-4BE5-B763-0CB59D7F6795}" type="slidenum">
              <a:t>13</a:t>
            </a:fld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heSansCorrespondence"/>
              </a:rPr>
              <a:t>ESTÁNDARES CURRICULARES EN MATEMÁTICAS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68580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.   NÚMERO Y OPERAC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I.  ÁLGEBR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II. GEOMETRÍA  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V. MEDID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V.  MATEMÁTICAS DISCRET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1CC8-63E2-4BF7-ACE1-1E8894D1508E}" type="slidenum">
              <a:t>14</a:t>
            </a:fld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75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 CURRICULAR DE MATEMÁTICAS PARA 5º GRADO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92000" y="1484280"/>
            <a:ext cx="745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.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NÚMERO Y OPERACION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 -1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MPRENDER LOS NÚMEROS, SUS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PROPIEDADES, REPRESENTACIÓN,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RELACIONES Y LOS SISTEMAS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NUMÉRIC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 -1- (a)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 USAR MODELOS, REFERENCIAS Y FORMAS EQUIVALENTES PARA JUZGAR EL TAMAÑO DE LAS FRACCIONES USANDO DECIMALES Y PORCENTAJES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8A04-B929-41EA-9441-60B7CDD9FA73}" type="slidenum">
              <a:t>15</a:t>
            </a:fld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 DE EJECUCIÓN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63640" y="1989000"/>
            <a:ext cx="6858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PECIFICACIÓN DE LAS HABILIDADES Y APTITUDES QUE LOS ESTUDIANTES DEBEN APRENDER EN RELACIÓN CON CADA ESTÁNDAR DE CONTENID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FF66B-52B7-47A9-BAE0-186277AFDA1F}" type="slidenum">
              <a:t>16</a:t>
            </a:fld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ES DE EJECUCIÓN EN MATEMÁTIC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92360" y="2060640"/>
            <a:ext cx="6858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ESOLUCIÓN DE PROBLEM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AZONAMIENTO Y DEMOSTR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OMUNIC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ONEX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EPRESENT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9F328-A711-4A5B-920B-0107097C31D1}" type="slidenum">
              <a:t>17</a:t>
            </a:fld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759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STÁNDARES PEDAGÓGICO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18920" y="1268280"/>
            <a:ext cx="7140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Lineamientos para: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PROMOVER ACTIVIDADES QUE IMPULSEN UN CLIMA DE COOPERACIÓN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ACILITAR LAS CONEXIONES ENTRE LO QUE SE ENSEÑA Y LO QUE RODEA AL ESTUDIANTE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ORTALECER EL APRENDIZAJE DE PROCEDIMIENTOS Y AUTOMATISMO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DE2B-FD8B-4420-AC07-7E11AB62029C}" type="slidenum">
              <a:t>18</a:t>
            </a:fld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759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ES PEDAGÓGICOS EN MATEMÁTIC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47280" y="1557360"/>
            <a:ext cx="7380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NSEÑANDO CON TECNOLOGÍ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APRENDIZAJE ACTIV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HACIENDO CONEX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USANDO APROXIMACIONES MÚLTIPL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XPERIMENTANDO LAS MATEMÁTIC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LASES INTERACTIV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683C8-CED6-4C82-B201-439082186E13}" type="slidenum">
              <a:t>19</a:t>
            </a:fld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SOCIEDAD DEL CONOCIMIENTO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00"/>
                </a:solidFill>
                <a:latin typeface="TheSansCorrespondence"/>
              </a:rPr>
              <a:t>META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REALIZACIÓN PERSONAL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CIUDADANÍA ACTIVA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EMPLEABILIDAD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00"/>
                </a:solidFill>
                <a:latin typeface="TheSansCorrespondence"/>
              </a:rPr>
              <a:t>ÉNFASI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De ENSEÑAR a </a:t>
            </a:r>
            <a:r>
              <a:rPr b="1" lang="es-ES_tradnl" sz="2500" spc="-1" strike="noStrike">
                <a:solidFill>
                  <a:srgbClr val="00cc99"/>
                </a:solidFill>
                <a:latin typeface="TheSansCorrespondence"/>
              </a:rPr>
              <a:t>APRENDER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De DESARROLLO DEL CONOCIMIENTO al de APTITUDE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3629E-7A06-4FE2-8A9A-19B2C1478EFA}" type="slidenum">
              <a:t>2</a:t>
            </a:fld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APRENDIZAJE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596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UN ESTUDIANTE APRENDE CUANDO PIENSA ACTIVAMENTE CONSTRUYENDO Y DESARROLLANDO MODELOS MENTALES EXPLICATIVOS QUE LE PERMITEN ADAPTARSE ANTE SITUACIONES INESPERADA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ctr">
              <a:lnSpc>
                <a:spcPct val="13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3300" spc="-1" strike="noStrike">
                <a:solidFill>
                  <a:srgbClr val="000096"/>
                </a:solidFill>
                <a:latin typeface="TheSansCorrespondence"/>
              </a:rPr>
              <a:t>EVALUACIÓN DEL APRENDIZAJE</a:t>
            </a:r>
            <a:endParaRPr b="0" lang="en-US" sz="33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VESTIGACIÓN SISTEMÁTICA QUE ABARCA TODOS LOS MÉTODOS USADOS PARA VALORAR O JUZGAR LA EFICIENCIA DE UNA PERSONA O DE UN GRUPO A TRAVÉS DE PRUEBAS, DOCUMENTACIÓN, SEGUIMIENTO O MONITOREO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6266D-262E-4ED2-8E09-54E85B63D374}" type="slidenum">
              <a:t>20</a:t>
            </a:fld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ÉNFASIS EN LA EVALUACIÓN DE LOS APRENDIZAJE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6858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DE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DETERMINAR LA AUSENCIA DE UN FRAGMENTO DE INFORMACIÓN  </a:t>
            </a: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A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ÓMO SE ORGANIZA, ESTRUCTURA Y USA ESA INFORMACIÓN PARA RESOLVER PROBLEMAS COMPLEJ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DE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LOS TRADICIONALES EXÁMENES </a:t>
            </a: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LA EVALUACIÓN BASADA EN ESTÁNDARES DE DESEMPEÑ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B6EB-782B-4BB4-BB6B-87E61729D364}" type="slidenum">
              <a:t>21</a:t>
            </a:fld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VALUACIÓN BASADA EN ESTÁNDARES (EBE)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47640" y="1484280"/>
            <a:ext cx="734544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LA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ESTÁ CONSTITUIDA POR UN GRAN GRUPO DE MÉTODOS DE EVALUACIÓN LIGADOS AL PENSAMIENTO CRITERI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96"/>
                </a:solidFill>
                <a:latin typeface="TheSansCorrespondence"/>
              </a:rPr>
              <a:t>LA </a:t>
            </a:r>
            <a:r>
              <a:rPr b="1" lang="es-ES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" sz="2200" spc="-1" strike="noStrike">
                <a:solidFill>
                  <a:srgbClr val="000096"/>
                </a:solidFill>
                <a:latin typeface="TheSansCorrespondence"/>
              </a:rPr>
              <a:t> PERMITE CENTRAR EL ESFUERZO DE LOS EDUCADORES Y LOS ESTUDIANTES EN METAS DE DESEMPEÑO ESPECÍFIC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L FIN DE LA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ES AYUDAR A LOS ESTUDIANTES A CUMPLIR CON LOS ESTÁNDARES MIDIENDO SU PROGRESO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BB80D-87A1-43C5-96E6-351AD8A2621E}" type="slidenum">
              <a:t>22</a:t>
            </a:fld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RETOS PARA LOS SISTEMAS DE EBE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CONSTRUIR UN CONSENSO NACIONAL, REGIONAL, LOCAL O INSTITUCION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STABLECER ESTÁNDARES DE ALTO NI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ALINEAR LOS ESTÁNDARES CON LE ENSEÑANZA Y LA EVALUACIÓN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ASEGURAR MEDICIONES PRECIS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INCLUIR A TODOS LOS ESTUDIANTE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CONSTRUIR CAPACIDAD LOC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STIMAR COSTO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NCARAR RETOS LEGALE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416D-4327-4FB0-AC94-795DF93CD3A4}" type="slidenum">
              <a:t>23</a:t>
            </a:fld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¿CÓMO SE DISEÑA UNA PRUEBA DE EVALUACIÓN BASADA EN ESTÁNDARES?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63640" y="2420640"/>
            <a:ext cx="6858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IDENTIFICAR LOS CONTENIDOS DE CADA ESTÁNDAR CURRICULAR: CONCEPTOS Y PROCEDIMIENT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JUSTAR EL NÚMERO DE PREGUNTAS PARA REPRESENTAR A LOS ESTÁNDARES Y SUS CONTENIDOS, Y AL TIEMPO DISPONIBLE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FA70-B0B9-47ED-A8DF-3079D88CA180}" type="slidenum">
              <a:t>24</a:t>
            </a:fld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ONSTRUCCIÓN O ELECCIÓN DE LAS PREGUNT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640" y="1557360"/>
            <a:ext cx="6858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TRUIR PREGUNTAS EN BASE A LA EXPERIENCIA PREVI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ELEGIR PREGUNTAS DE UN BANCO DE PREGUNTAS ESTANDARIZADA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CRITERI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ADO DE DIFICULTAD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PODER DISCRIMINADO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TIEMPO-ALUMNO DE RESOLUCIÓN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6937D-2C79-46FF-8988-146C7C3D5B22}" type="slidenum">
              <a:t>25</a:t>
            </a:fld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ALIFICACIÓN DE LA PRUEBA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6000" y="105264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 CARGO DE UNA COMISIÓN EXTERNA O INTERN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USO DE TARJETAS PARA LECTURA ÓPTICA O CALIFICACIÓN MANU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DJUDICAR UN CÓDIGO PARA CADA ALUMNO VÁLIDO PARA TODA SU ESCOLARIDAD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ENERAR UNA BASE DE DATOS USANDO CÓDIGOS, APELLIDOS Y NOMBRES, PREGUNTAS Y RESPUESTAS (BIEN, MAL, NO CONTESTADA)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18C88-712D-4931-B734-7B90185DF51E}" type="slidenum">
              <a:t>26</a:t>
            </a:fld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720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ANÁLISIS DE LOS DAT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6000" y="1294920"/>
            <a:ext cx="7667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PROCESAMIENTO ESTADÍSTICO DE LOS DATOS PARA: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FORMAR A LOS ESTUDIANTES Y PADRES SOBRE EL RENDIMIENTO INDIVIDUAL PARA LA ORIENTACIÓN POSTERIOR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FORMAR A LOS PROFESORES Y DIRECTIVOS DE LA DISTRIBUCIÓN DE LOGROS EN LA TOTALIDAD DEL GRUPO PARA LA APLICACIÓN DE ESTRATEGIAS DE APRENDIZAJE COHERENTE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GRADO DE DIFICULTAD Y PODER DISCRIMINADOR DE CADA PREGUNTA PLANTEADA PARA LA CONSTRUCCIÓN DE UN BANCO DE PREGUNTA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6681C-3CB7-4E30-B4BF-B88A4019553E}" type="slidenum">
              <a:t>27</a:t>
            </a:fld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INDICADORES ESTADÍSTICOS SOBRE TODOS LOS ALUMNOS DE UN SALÓN</a:t>
            </a:r>
            <a:br>
              <a:rPr sz="3600"/>
            </a:b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8000" y="2349000"/>
            <a:ext cx="6858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PROMEDI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MÍNIM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MÁXIM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DESVIACIÓN ESTÁNDAR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HISTOGRAMA DE FRECUENCI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C26E7-37AD-4FB8-BAB9-04BA37B2D1E6}" type="slidenum">
              <a:t>28</a:t>
            </a:fld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INDICADOR ESTADÍSTICO SOBRE CADA PREGUNTA DE LA PRUEBA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6000" y="141300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CADA PREGUNTA ES CONTESTADA POR CADA ALUMNO BIEN (B),  MAL  (M) O NO ES CONTESTADA  (NC)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CADA PREGUNTA RECIBE UNA ETIQUETA: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DEFICIENTE (D)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67%   a   100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MAL (M)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36%   a   66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BIEN (B)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0%   a   35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SE IDENTIFICA AQUELLOS CONTENIDOS O PROCEDIMIENTOS QUE ESTÁN  </a:t>
            </a:r>
            <a:r>
              <a:rPr b="1" lang="es-ES_tradnl" sz="1800" spc="-1" strike="noStrike">
                <a:solidFill>
                  <a:srgbClr val="ff3300"/>
                </a:solidFill>
                <a:latin typeface="TheSansCorrespondence"/>
              </a:rPr>
              <a:t>MAL 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O  </a:t>
            </a:r>
            <a:r>
              <a:rPr b="1" lang="es-ES_tradnl" sz="1800" spc="-1" strike="noStrike">
                <a:solidFill>
                  <a:srgbClr val="ff3300"/>
                </a:solidFill>
                <a:latin typeface="TheSansCorrespondence"/>
              </a:rPr>
              <a:t>DEFICIENTES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Y DEBEN SER REFORZADOS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B0F28-EA42-471C-A8BF-EB717F854192}" type="slidenum">
              <a:t>29</a:t>
            </a:fld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3280" y="620640"/>
            <a:ext cx="774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SISTEMAS EDUCATIV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417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</a:t>
            </a:r>
            <a:r>
              <a:rPr b="1" lang="es-ES_tradnl" sz="2800" spc="-1" strike="noStrike">
                <a:solidFill>
                  <a:srgbClr val="ff0000"/>
                </a:solidFill>
                <a:latin typeface="TheSansCorrespondence"/>
              </a:rPr>
              <a:t>ESTÁNDARES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 Y LA </a:t>
            </a:r>
            <a:r>
              <a:rPr b="1" lang="es-ES_tradnl" sz="2800" spc="-1" strike="noStrike">
                <a:solidFill>
                  <a:srgbClr val="ff0000"/>
                </a:solidFill>
                <a:latin typeface="TheSansCorrespondence"/>
              </a:rPr>
              <a:t>EVALUACIÓN 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SON INSTRUMENTOS CLAVES PARA DEFINIR LAS POLÍTICAS APROPIADAS PARA EL MEJORAMIENTO DE LA CALIDAD EDUCATIV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5158E-1505-4881-B473-80E925910502}" type="slidenum">
              <a:t>3</a:t>
            </a:fld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228240"/>
            <a:ext cx="7667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INDICADOR ESTADÍSTICO SOBRE TODA LA PRUEBA EN UN SALÓN:</a:t>
            </a:r>
            <a:br>
              <a:rPr sz="3200"/>
            </a:br>
            <a:r>
              <a:rPr b="1" lang="es-ES_tradnl" sz="3200" spc="-1" strike="noStrike">
                <a:solidFill>
                  <a:srgbClr val="ff3300"/>
                </a:solidFill>
                <a:latin typeface="TheSansCorrespondence"/>
              </a:rPr>
              <a:t>ÍNDICE DE ACIERTOS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7280" y="1844640"/>
            <a:ext cx="7596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XISTE UN UNIVERSO DE RESPUESTAS SEGÚN EL NÚMERO DE PREGUNTAS DE LA PRUEBA Y EL NÚMERO DE ALUMNOS QUE RINDE LA MISM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6"/>
                </a:solidFill>
                <a:latin typeface="TheSansCorrespondence"/>
              </a:rPr>
              <a:t>20 respuestas/alumno x 30 alumnos/salón = 600 respt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ACIERTOS (B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120   2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RRADAS (M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180   3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NO CONTESTADAS (NC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300   5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SE DEBERÍA TENDER A UN ÍNDICE DE ACIERTOS DE 80%  O SUPERIO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0E1F-A216-4DB9-97E1-CA10C1F60672}" type="slidenum">
              <a:t>30</a:t>
            </a:fld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19280" y="228240"/>
            <a:ext cx="752472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NIVEL DE DIFICULTAD DE CADA PREGUNTA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47280" y="3499920"/>
            <a:ext cx="7596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PROPORCIÓN DE ESTUDIANTES QUE RESPONDEN CORRECTAMENTE LA PREGUNTA 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CRITERIO: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NIVEL MEDIO DE DIFICULTAD 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0.5 &lt; p &lt; 0.6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411280" y="1916280"/>
          <a:ext cx="5616720" cy="122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916280"/>
                    <a:ext cx="5616720" cy="12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8AF2F-6253-4A66-95A6-B0FA78472F7F}" type="slidenum">
              <a:t>31</a:t>
            </a:fld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03280" y="299880"/>
            <a:ext cx="774072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ÍNDICE DE DISCRIMINACIÓN DE CADA PREGUNTA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6360" y="2205000"/>
            <a:ext cx="739152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UNA BUENA PREGUNTA DEBE DISCRIMINAR ENTRE LOS QUE OBTIENEN ALTAS Y BAJAS CALIFICACION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UPO ALTO (GA) = 27% X TOT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UPO BAJO (GB) = 27% X TOT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700360" y="5157720"/>
          <a:ext cx="517356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5157720"/>
                    <a:ext cx="51735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524A6-4240-45DC-9101-5B491D2EDB02}" type="slidenum">
              <a:t>32</a:t>
            </a:fld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62323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RITERIOS PARA EL ÍNDICE DE DISCRIMINACIÓN  (D)</a:t>
            </a:r>
            <a:br>
              <a:rPr sz="2800"/>
            </a:br>
            <a:br>
              <a:rPr sz="2000"/>
            </a:br>
            <a:r>
              <a:rPr b="0" lang="es-ES_tradnl" sz="3200" spc="-1" strike="noStrike">
                <a:solidFill>
                  <a:srgbClr val="000096"/>
                </a:solidFill>
                <a:latin typeface="TheSansCorrespondence"/>
              </a:rPr>
              <a:t>-1 &lt; D &lt; 1</a:t>
            </a:r>
            <a:br>
              <a:rPr sz="3200"/>
            </a:b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3280" y="2637000"/>
            <a:ext cx="7740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39 - 1.0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XCELENTE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CONSERVAR PREGUNT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30 - 0.39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BUENA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POSIBILIDAD MEJOR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20 - 0.29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REGULAR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NECESIDAD REVISA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00 - 0.2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POBR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SCARTA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-1 -  0.0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PÉSIMA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SCARTAR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FINITIVAMENTE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B2FD0-734A-4B44-82BB-7AD2A4A3164B}" type="slidenum">
              <a:t>33</a:t>
            </a:fld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REPORT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47280" y="1052640"/>
            <a:ext cx="759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L ALUMNO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SU CALIFICATIVO, TEMAS DÉBILES Y RECOMENDACIONE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L PROFESOR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LISTA DE SUS ALUMNOS, CALIFICATIVOS, HISTOGRAMA, MEDIA, MÍNIMA, MÁXIMA, DESVIACIÓN ESTÁNDAR, IDENTIFICACIÓN DE TEMAS A REVISAR, ÍNDICE DE ACIERTO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 LOS DIRECTIVOS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LO MISMO QUE AL PROFESOR PERO DE TODOS LOS CURSOS Y GRADOS, ADEMÁS DE LOS GRADOS DE DIFICULTAD Y PODER DISCRIMINADOR DE CADA PREGUNTA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A310D-276A-4BFC-A926-D654BFCF7179}" type="slidenum">
              <a:t>34</a:t>
            </a:fld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10d82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561960" y="590400"/>
              <a:ext cx="8020080" cy="567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CF33-5FF1-40EB-9F0C-FEA5A84F221E}" type="slidenum">
              <a:t>35</a:t>
            </a:fld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2360" y="620640"/>
            <a:ext cx="6232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92360" y="1905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nunciados que proveen descripciones claras y específicas de las habilidades y conocimientos que los estudiantes deben lograr en su proceso de aprendizaje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26D85-5D92-43B0-85D7-B3F62EAD4A17}" type="slidenum">
              <a:t>4</a:t>
            </a:fld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¿QUIÉNES FIJAN LOS ESTÁNDARES?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19280" y="2421000"/>
            <a:ext cx="6858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A GENTE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PROFESO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XPERTO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VALUADO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58B01-ABB0-41B9-8C13-62BF9A7B9BBB}" type="slidenum">
              <a:t>5</a:t>
            </a:fld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ARACTERÍSTICA GENERAL </a:t>
            </a:r>
            <a:br>
              <a:rPr sz="4000"/>
            </a:b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DE LOS 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6360" y="1844640"/>
            <a:ext cx="7416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STÁNDARES DEBEN SER LOS MISMOS PARA TODOS LOS NIÑOS Y JÓVENES SIN IMPORTAR SUS DIFERENCI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ALGUNOS ESTUDIANT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NECESITAN DE MÁS TIEMPO, 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OTROS DE MÁS INSTRUC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8200-F016-4139-8CA6-76BD0E0FC84C}" type="slidenum">
              <a:t>6</a:t>
            </a:fld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75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ARACTERÍSTICAS DE LOS 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6000" y="155736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CENTRARSE EN LO ACADÉMICO (DISCIPLINAS)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OMENTAR QUE TODOS LOS ALUMNOS TENGAN UN CURRÍCULO BÁSICO COMÚN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REALISTAS CON EL TIEMPO DISPONIBLE PARA LA ENSEÑANZA</a:t>
            </a:r>
            <a:r>
              <a:rPr b="0" lang="es-ES" sz="25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TENER COMO REFERENCIA LOS ESTÁNDARES INTERNACIONALES DE CALIDAD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D646-2DB9-4BF5-923B-5905436C3583}" type="slidenum">
              <a:t>7</a:t>
            </a:fld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6232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ARACTERÍSTICAS ……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596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COMBINAR CAPACIDADES SIN PRIVILEGIARLA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COMPRENDIDOS POR TODOS LOS INTERESADO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EL RESULTADO DE UN PROCESO INTERACTIVO DE COMENTARIOS, RETROALIMENTACIÓN Y REVISIÓN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NO DEBEN ESTAR LIMITADOS AL CURRÍCULO OFICIAL 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7183B-455E-48F0-9507-A6E4D8836CAC}" type="slidenum">
              <a:t>8</a:t>
            </a:fld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620280"/>
            <a:ext cx="81374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heSansCorrespondence"/>
              </a:rPr>
              <a:t>¿</a:t>
            </a: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QUÉ </a:t>
            </a:r>
            <a:r>
              <a:rPr b="1" lang="es-ES_tradnl" sz="3600" spc="-1" strike="noStrike">
                <a:solidFill>
                  <a:srgbClr val="ff0000"/>
                </a:solidFill>
                <a:latin typeface="TheSansCorrespondence"/>
              </a:rPr>
              <a:t>NO</a:t>
            </a: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 SON LOS ESTÁNDARES?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92360" y="170028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on un programa ni syllabu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on una lista de actividad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especifican la didáctica a emple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prescriben un orden o secuenci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recomiendan bibliografía algun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especifican materiales a us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indican cómo evalu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ustituyen a otros document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B095-C7FA-46FC-B4AE-AF18C8F2F86D}" type="slidenum">
              <a:t>9</a:t>
            </a:fld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9:19:57Z</dcterms:created>
  <dc:creator>Alexis Sifuentes Alarcon</dc:creator>
  <dc:description/>
  <dc:language>en-US</dc:language>
  <cp:lastModifiedBy>Hildebrando Luque</cp:lastModifiedBy>
  <cp:lastPrinted>2004-05-05T15:40:35Z</cp:lastPrinted>
  <dcterms:modified xsi:type="dcterms:W3CDTF">2006-08-05T18:37:17Z</dcterms:modified>
  <cp:revision>358</cp:revision>
  <dc:subject/>
  <dc:title>Sin título de diapositiva</dc:title>
</cp:coreProperties>
</file>